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16.png" ContentType="image/pn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7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88.png" ContentType="image/png"/>
  <Override PartName="/ppt/media/image49.jpeg" ContentType="image/jpeg"/>
  <Override PartName="/ppt/media/image73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92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85.jpeg" ContentType="image/jpe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CDAD-737F-4D9E-9696-BBBC75B1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EC79-3A50-41CF-8CA7-662B0C9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81F9-621F-4BCD-8ABB-2ABCCE05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8EAC-3BEE-41C3-850D-750DBD3B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442-B477-46A8-9179-1C694A74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4DF-DDF7-4372-A903-28246A8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E81D-F554-4EDF-9E45-A49B5B0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BEE-E0FB-4786-A4B2-DED6FA2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2A0-AD2A-4E12-B138-3AE64B7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5711-34EB-4634-A552-EDF8DD6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180-E291-4ED5-BFDE-5F48811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0B73-3742-47F7-B963-CFE3280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5857-63E7-40DF-B975-DF69DF5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1634-F49E-43EA-B61D-594B3BA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D519-636E-4F81-9920-17B47894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0C2-856D-45EC-8752-98B758FC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1FA7-BA18-4AFC-8C09-B5930565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1E96-310D-4892-8890-6AEB711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CE0D-0347-4E27-96CD-8C27E3BD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2A8E-564F-4935-A50D-DC6DB969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E335-BCD3-4D44-A9EA-D231A0F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AB45-34A7-4417-97ED-0E6F3F0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1599-A57F-4053-BECB-064B11C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877C-3E41-476F-9350-65E41FF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F4F-5D1B-4B58-B7A5-32A546B76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B460-0629-4821-B5AF-ECA53A94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uti.com.my/Sub/Kl/kuala_lumpur_deer_park.jpg&amp;imgrefurl=http://www.cuti.com.my/Sub/Kl/guide_kuala_lumpur_deer_park.htm&amp;usg=__cuH-IKcjD4vcWZvsmuai5aUYxdI=&amp;h=304&amp;w=388&amp;sz=34&amp;hl=en&amp;start=10&amp;tbnid=_L1wR2YcKyXAwM:&amp;tbnh=96&amp;tbnw=123&amp;prev=/images?q=deer&amp;gbv=2&amp;hl=en" TargetMode="External"/><Relationship Id="rId2" Type="http://schemas.openxmlformats.org/officeDocument/2006/relationships/image" Target="../media/image89.jpeg"/><Relationship Id="rId3" Type="http://schemas.openxmlformats.org/officeDocument/2006/relationships/hyperlink" Target="http://images.google.com/imgres?imgurl=http://www.sixwise.com/images/articles/2006/08/13/bully.gif&amp;imgrefurl=http://www.sixwise.com/newsletters/06/08/13/whether-youre-left-or-right-its-time-to-fight-the-bullies.htm&amp;usg=__pogGuYt3fNirI82SbeL4GXiiRr4=&amp;h=299&amp;w=214&amp;sz=25&amp;hl=en&amp;start=9&amp;tbnid=BQNRBmu5JSYbmM:&amp;tbnh=116&amp;tbnw=83&amp;prev=/images?q=jeer&amp;gbv=2&amp;hl=en" TargetMode="External"/><Relationship Id="rId4" Type="http://schemas.openxmlformats.org/officeDocument/2006/relationships/image" Target="../media/image90.jpeg"/><Relationship Id="rId5" Type="http://schemas.openxmlformats.org/officeDocument/2006/relationships/hyperlink" Target="http://images.google.com/imgres?imgurl=http://www.uam.es/otros/hojavol/hoja8/imagenes08/leer08.jpg&amp;imgrefurl=http://www.uam.es/otros/hojavol/hoja8/leer08.html&amp;usg=__tECVs1gbSnPwXpmCmdJERStjmUo=&amp;h=391&amp;w=610&amp;sz=18&amp;hl=en&amp;start=1&amp;tbnid=bz-WX8scz_f8iM:&amp;tbnh=87&amp;tbnw=136&amp;prev=/images?q=leer&amp;gbv=2&amp;ndsp=20&amp;hl=en&amp;sa=N" TargetMode="External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image" Target="../media/image94.jpeg"/><Relationship Id="rId10" Type="http://schemas.openxmlformats.org/officeDocument/2006/relationships/image" Target="../media/image95.jpeg"/><Relationship Id="rId11" Type="http://schemas.openxmlformats.org/officeDocument/2006/relationships/image" Target="../media/image96.jpeg"/><Relationship Id="rId1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obal-b2b-network.com/direct/dbimage/50294677/Service_Cart_W__Two_Drawers.jpg&amp;imgrefurl=http://www.global-b2b-network.com/b2b/17/21/762/storage_carts_and_trolleys.html&amp;usg=__I7RX1V0R-wnZ24kU1ZrihFw5CJ8=&amp;h=360&amp;w=360&amp;sz=22&amp;hl=en&amp;start=7&amp;tbnid=NktdV0iZj9qtXM:&amp;tbnh=121&amp;tbnw=121&amp;prev=/images?q=cart&amp;gbv=2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wait-till-i.com/stuff/chart-table.png&amp;imgrefurl=http://www.wait-till-i.com/tag/progressive-enhancement/&amp;usg=__cGJZv80EITFD5l-qyRZfjfEGZ3M=&amp;h=536&amp;w=414&amp;sz=21&amp;hl=en&amp;start=7&amp;tbnid=50RwSanPWdBmEM:&amp;tbnh=132&amp;tbnw=102&amp;prev=/images?q=chart&amp;gbv=2&amp;hl=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dartsuppliesdirect.com/dart.jpg&amp;imgrefurl=http://www.dartsuppliesdirect.com/dartgamemachine.html&amp;usg=__f-gDnAfr397VJivCPod8Fq1jUtc=&amp;h=358&amp;w=400&amp;sz=20&amp;hl=en&amp;start=2&amp;tbnid=lGFZ2ePVIr0N0M:&amp;tbnh=111&amp;tbnw=124&amp;prev=/images?q=dart&amp;gbv=2&amp;hl=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img.photobucket.com/albums/v604/kitchenmonkey/Tart-Single.jpg&amp;imgrefurl=http://www.goinggreencandles.com/tart-molds/tart-molds.php&amp;usg=__vw9ptcGtZ6OPc9NIZV483KIiR5s=&amp;h=606&amp;w=800&amp;sz=106&amp;hl=en&amp;start=5&amp;tbnid=GOGKNjnk6x5BLM:&amp;tbnh=108&amp;tbnw=143&amp;prev=/images?q=tart&amp;gbv=2&amp;hl=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/imgres?imgurl=http://www.animalspirits.com/deer.jpg&amp;imgrefurl=http://www.animalspirits.com/index5.html&amp;usg=__IUlcvj8idVvFhW6O73e45z9puFg=&amp;h=446&amp;w=400&amp;sz=41&amp;hl=en&amp;start=8&amp;tbnid=6RzLdwkVCWcjGM:&amp;tbnh=127&amp;tbnw=114&amp;prev=/images?q=hart+deer&amp;gbv=2&amp;hl=e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com/imgres?imgurl=http://www.exclusivestm.com/wp-content/uploads/2007/07/kwik-e-mart.jpg&amp;imgrefurl=http://www.exclusivestm.com/category/film/&amp;usg=__LZD9KZ-iHMat7DE_ystf_02kdE4=&amp;h=338&amp;w=450&amp;sz=28&amp;hl=en&amp;start=4&amp;tbnid=nm_6nWpjuyy0vM:&amp;tbnh=95&amp;tbnw=127&amp;prev=/images?q=mart&amp;gbv=2&amp;hl=e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ilcrop.tamu.edu/photogallery/cornsorghum+/images/corn%2520ears.jpg&amp;imgrefurl=http://soilcrop.tamu.edu/photogallery/cornsorghum+/pages/corn%2520ears.htm&amp;usg=__KKC04uCe6NZu2WbodPQrQbnl80U=&amp;h=1026&amp;w=1284&amp;sz=285&amp;hl=en&amp;start=4&amp;tbnid=i3VCzG8f421EyM:&amp;tbnh=120&amp;tbnw=150&amp;prev=/images?q=corn&amp;gbv=2&amp;hl=e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chnm.gmu.edu/resources/essays/images/EvolutionIntelligentDesignClimateChange/corn_diversity.jpg&amp;imgrefurl=http://chnm.gmu.edu/resources/essays/d/41&amp;usg=__ri5lvbFS9Q_e79zY4UsxMKpNM6k=&amp;h=366&amp;w=550&amp;sz=36&amp;hl=en&amp;start=8&amp;tbnid=dFMbDTHzipzVMM:&amp;tbnh=89&amp;tbnw=133&amp;prev=/images?q=corn&amp;gbv=2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music.vt.edu/musicdictionary/texth/images/horn.jpg&amp;imgrefurl=http://www.music.vt.edu/musicdictionary/texth/Horn.html&amp;usg=___5yVYnAL_MogiKLHR6WNzsDm0nQ=&amp;h=484&amp;w=405&amp;sz=154&amp;hl=en&amp;start=1&amp;tbnid=SPB6CDXn_Xr7ZM:&amp;tbnh=129&amp;tbnw=108&amp;prev=/images?q=horn&amp;gbv=2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photoshopmonster.com/tutorial/Photoshop-torn-punch-hole-paper/Photoshop-torn-punch-hole-paper.jpg&amp;imgrefurl=http://www.photoshopmonster.com/Free-photoshop-tutorial-learn-how-to-create-torn-paper-and-punch-a-hole_78.html&amp;usg=__GzuYH6ya-or_XL20SKDfZjrIYaU=&amp;h=377&amp;w=357&amp;sz=10&amp;hl=en&amp;start=4&amp;tbnid=yxvgoqtVcGzxgM:&amp;tbnh=122&amp;tbnw=116&amp;prev=/images?q=torn&amp;gbv=2&amp;hl=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mooseyscountrygarden.com/rose-picture-gallery/rose-thorn.jpg&amp;imgrefurl=http://innerstitch.blogspot.com/2008/06/hunt-for-wild-boojum-is-it-thorny-or.html&amp;usg=__5zFdofpHgmwYF7fUxdw98BQiIQE=&amp;h=768&amp;w=1024&amp;sz=120&amp;hl=en&amp;start=2&amp;tbnid=n4lhcH4A1wJW-M:&amp;tbnh=113&amp;tbnw=150&amp;prev=/images?q=thorn&amp;gbv=2&amp;hl=en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msnbcmedia3.msn.com/j/msnbc/Components/Photos/060201/060201_bernanke_sworn_hmed_7a.hmedium.jpg&amp;imgrefurl=http://www.msnbc.msn.com/id/11127887&amp;usg=__b9os9sX1P7Aw9BwiNIKlcPE-B7M=&amp;h=273&amp;w=350&amp;sz=18&amp;hl=en&amp;start=9&amp;tbnid=UCUsla4Wrip9jM:&amp;tbnh=94&amp;tbnw=120&amp;prev=/images?q=sworn&amp;gbv=2&amp;hl=en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Quilt%20Story.htm" TargetMode="External"/><Relationship Id="rId2" Type="http://schemas.openxmlformats.org/officeDocument/2006/relationships/hyperlink" Target="http://www.scottsboro.org/~flewis/SF%20Reading%20Street/spellmaster/Quilt%20Story/jigword2.html" TargetMode="External"/><Relationship Id="rId3" Type="http://schemas.openxmlformats.org/officeDocument/2006/relationships/hyperlink" Target="http://www.scottsboro.org/~flewis/SF%20Reading%20Street/spellmaster/Quilt%20Story/matchword2.html" TargetMode="External"/><Relationship Id="rId4" Type="http://schemas.openxmlformats.org/officeDocument/2006/relationships/hyperlink" Target="http://www.scottsboro.org/~flewis/SF%20Reading%20Street/spellmaster/Quilt%20Story/speedword2.html" TargetMode="External"/><Relationship Id="rId5" Type="http://schemas.openxmlformats.org/officeDocument/2006/relationships/hyperlink" Target="http://www.scottsboro.org/~flewis/SF%20Reading%20Street/spellmaster/Quilt%20Story/speedword2.html" TargetMode="External"/><Relationship Id="rId6" Type="http://schemas.openxmlformats.org/officeDocument/2006/relationships/hyperlink" Target="http://www.scottsboro.org/~flewis/SF%20Reading%20Street/spellmaster/Quilt%20Story/wordweb.html" TargetMode="External"/><Relationship Id="rId7" Type="http://schemas.openxmlformats.org/officeDocument/2006/relationships/hyperlink" Target="http://www.spellingcity.com/index.php?option=com_spellcity&amp;task=viewList&amp;listId=825557" TargetMode="External"/><Relationship Id="rId8" Type="http://schemas.openxmlformats.org/officeDocument/2006/relationships/hyperlink" Target="http://www.spellingcity.com/index.php?option=com_spellcity&amp;task=viewList&amp;listId=825561" TargetMode="External"/><Relationship Id="rId9" Type="http://schemas.openxmlformats.org/officeDocument/2006/relationships/hyperlink" Target="http://www.scottsboro.org/~flewis/SF%20Reading%20Street/spellmaster/Quilt%20Story%20Spelling%20Words/speedword2.html" TargetMode="External"/><Relationship Id="rId10" Type="http://schemas.openxmlformats.org/officeDocument/2006/relationships/hyperlink" Target="http://www.scottsboro.org/~flewis/SF%20Reading%20Street/spellmaster/Quilt%20Story%20Spelling%20Words/wordweb.html" TargetMode="External"/><Relationship Id="rId11" Type="http://schemas.openxmlformats.org/officeDocument/2006/relationships/hyperlink" Target="http://www.quia.com/hm/316897.html" TargetMode="External"/><Relationship Id="rId12" Type="http://schemas.openxmlformats.org/officeDocument/2006/relationships/hyperlink" Target="http://www.spellingcity.com/index.php?option=com_spellcity&amp;Itemid=122&amp;task=viewList&amp;listId=354265" TargetMode="External"/><Relationship Id="rId13" Type="http://schemas.openxmlformats.org/officeDocument/2006/relationships/hyperlink" Target="http://www.scottsboro.org/~flewis/SF%20Reading%20Street/Hot%20Potatoes/Quilt_Story.htm" TargetMode="External"/><Relationship Id="rId14" Type="http://schemas.openxmlformats.org/officeDocument/2006/relationships/hyperlink" Target="http://www.scottsboro.org/~flewis/SF%20Reading%20Street/Hot%20Potatoes/Quilt_Story.htm" TargetMode="External"/><Relationship Id="rId15" Type="http://schemas.openxmlformats.org/officeDocument/2006/relationships/hyperlink" Target="http://www.spellingcity.com/index.php?option=com_spellcity&amp;task=viewList&amp;listId=825570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uni.edu.ge/shortprograms/blog/wp-content/uploads/2008/12/fear.gif&amp;imgrefurl=http://www.freeuni.edu.ge/shortprograms/blog/&amp;usg=__g5Xrvx7gjvJQ29blxZL60uUA9iQ=&amp;h=592&amp;w=770&amp;sz=26&amp;hl=en&amp;start=3&amp;tbnid=m6IhTnRSlDxbgM:&amp;tbnh=109&amp;tbnw=142&amp;prev=/images?q=fear&amp;gbv=2&amp;hl=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img.directindustry.com/images_di/photo-g/cylindrical-gear-378049.jpg&amp;imgrefurl=http://www.directindustry.com/prod/nippon-gear/cylindrical-gear-25925-378049.html&amp;usg=__wBzOXT8_jyUkVUQ1PoqqPPQlo7c=&amp;h=800&amp;w=1000&amp;sz=80&amp;hl=en&amp;start=30&amp;tbnid=LGGgLaEVj6ej_M:&amp;tbnh=119&amp;tbnw=149&amp;prev=/images?q=gear&amp;gbv=2&amp;ndsp=20&amp;hl=en&amp;sa=N&amp;start=20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noiseaddicts.com/wp-content/uploads/2009/02/hearing-loss.jpg&amp;imgrefurl=http://www.noiseaddicts.com/2009/02/hearing-test-hear-like-teenager/&amp;usg=__OFtAZaW1WQt5ih4iJSFGKR51SCw=&amp;h=382&amp;w=319&amp;sz=36&amp;hl=en&amp;start=7&amp;tbnid=pIzGVNZvsr0HCM:&amp;tbnh=123&amp;tbnw=103&amp;prev=/images?q=hear&amp;gbv=2&amp;hl=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gallery.hd.org/_exhibits/natural-science/_more2003/_more09/elephant-rear-view-and-dung-on-road-bordered-by-bushes-in-Addo-Park-Eastern-Cape-South-Africa-WL.jpg&amp;imgrefurl=http://gallery.hd.org/_c/natural-science/_more2003/_more09/elephant-rear-view-and-dung-on-road-bordered-by-bushes-in-Addo-Park-Eastern-Cape-South-Africa-WL.jpg.html&amp;usg=__hoSxrQhLejoCB7jrcWPl9jYkLBk=&amp;h=1840&amp;w=1232&amp;sz=785&amp;hl=en&amp;start=5&amp;tbnid=uxTDjllZGOA4IM:&amp;tbnh=150&amp;tbnw=100&amp;prev=/images?q=rear&amp;gbv=2&amp;hl=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filtsai.com/cooking/blue_stuffed_tenderloin/sear_02.jpg&amp;imgrefurl=http://www.filtsai.com/cooking/blue_stuffed_tenderloin/&amp;usg=__W1fWvj8oU7Ly_OAxMkHWNDNluew=&amp;h=600&amp;w=800&amp;sz=143&amp;hl=en&amp;start=2&amp;tbnid=CNTGmzcpCDfwUM:&amp;tbnh=107&amp;tbnw=143&amp;prev=/images?q=sear&amp;gbv=2&amp;hl=e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i92.photobucket.com/albums/l14/bigwiggly/Tear.jpg&amp;imgrefurl=http://www.sodahead.com/question/253632/true-story/&amp;usg=__yubxyn6OkhebXso5QCzSVkV9jW8=&amp;h=400&amp;w=368&amp;sz=41&amp;hl=en&amp;start=1&amp;tbnid=ZgvEW7Qn9MvjvM:&amp;tbnh=124&amp;tbnw=114&amp;prev=/images?q=tear%2527&amp;gbv=2&amp;hl=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m/imgres?imgurl=http://www.expertalpacashearing.com/images/electric_shear.jpg&amp;imgrefurl=http://www.expertalpacashearing.com/details.htm&amp;usg=__b3Wa7L_m0KdIDjqscO7hye8WDDQ=&amp;h=480&amp;w=640&amp;sz=40&amp;hl=en&amp;start=8&amp;tbnid=Ud0GQ0uX3jrDMM:&amp;tbnh=103&amp;tbnw=137&amp;prev=/images?q=shear&amp;gbv=2&amp;hl=en" TargetMode="External"/><Relationship Id="rId14" Type="http://schemas.openxmlformats.org/officeDocument/2006/relationships/image" Target="../media/image23.jpeg"/><Relationship Id="rId15" Type="http://schemas.openxmlformats.org/officeDocument/2006/relationships/hyperlink" Target="http://images.google.com/imgres?imgurl=http://earth911.com/wp-content/uploads/2008/10/clear-glass-jar.jpg&amp;imgrefurl=http://earth911.com/glass/clear-glass/&amp;usg=___D4t_IYkSikAxbvD3slhVlxgG9k=&amp;h=300&amp;w=300&amp;sz=6&amp;hl=en&amp;start=12&amp;tbnid=oqc9HjI7OhWWlM:&amp;tbnh=116&amp;tbnw=116&amp;prev=/images?q=clear&amp;gbv=2&amp;hl=en" TargetMode="External"/><Relationship Id="rId16" Type="http://schemas.openxmlformats.org/officeDocument/2006/relationships/image" Target="../media/image24.jpeg"/><Relationship Id="rId17" Type="http://schemas.openxmlformats.org/officeDocument/2006/relationships/hyperlink" Target="http://images.google.com/imgres?imgurl=http://www.goravani.com/art/Copper_spear_reg.jpg&amp;imgrefurl=http://www.goravani.com/art/Copper_spear.html&amp;usg=__d_VVPrRMXav3_37Hazgk3rlWUo8=&amp;h=1578&amp;w=432&amp;sz=66&amp;hl=en&amp;start=11&amp;tbnid=wTXc6fqpKnDMBM:&amp;tbnh=150&amp;tbnw=41&amp;prev=/images?q=spear&amp;gbv=2&amp;hl=en" TargetMode="External"/><Relationship Id="rId18" Type="http://schemas.openxmlformats.org/officeDocument/2006/relationships/image" Target="../media/image25.jpeg"/><Relationship Id="rId19" Type="http://schemas.openxmlformats.org/officeDocument/2006/relationships/hyperlink" Target="http://images.google.com/imgres?imgurl=http://upload.wikimedia.org/wikipedia/commons/d/de/NCI_cream_cheese_bagel.jpg&amp;imgrefurl=http://holyname.wordpress.com/2008/05/15/toasted-bagel-with-a-smear/&amp;usg=__tN35qNMkt79EKwyPTArJILqm2gg=&amp;h=392&amp;w=392&amp;sz=95&amp;hl=en&amp;start=33&amp;tbnid=NpytkPVRWmg1NM:&amp;tbnh=123&amp;tbnw=123&amp;prev=/images?q=smear&amp;gbv=2&amp;ndsp=20&amp;hl=en&amp;sa=N&amp;start=20" TargetMode="External"/><Relationship Id="rId20" Type="http://schemas.openxmlformats.org/officeDocument/2006/relationships/image" Target="../media/image26.jpeg"/><Relationship Id="rId21" Type="http://schemas.openxmlformats.org/officeDocument/2006/relationships/hyperlink" Target="http://images.google.com/imgres?imgurl=http://upload.wikimedia.org/wikipedia/commons/b/be/WorldCalendar.png&amp;imgrefurl=http://en.wikipedia.org/wiki/World_Calendar&amp;usg=__7RBYv-bJpXXQwjKD2SdONLxHf9Y=&amp;h=546&amp;w=508&amp;sz=25&amp;hl=en&amp;start=3&amp;tbnid=rQ2Yf0t_gGH_bM:&amp;tbnh=133&amp;tbnw=124&amp;prev=/images?q=calendar&amp;gbv=2&amp;hl=en" TargetMode="External"/><Relationship Id="rId22" Type="http://schemas.openxmlformats.org/officeDocument/2006/relationships/image" Target="../media/image27.jpeg"/><Relationship Id="rId2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6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84.xml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singingquilter.com/Star%2520and%2520Plume%2520quilt%2520cropped.jpg&amp;imgrefurl=http://www.singingquilter.com/myquilts.htm&amp;usg=__b3vAuXrBJewVdiwvQ3rKbVtXWlg=&amp;h=866&amp;w=635&amp;sz=688&amp;hl=en&amp;start=2&amp;tbnid=9DbFwmcLs7TkSM:&amp;tbnh=145&amp;tbnw=106&amp;prev=/images?q=quilt&amp;gbv=2&amp;hl=en&amp;sa=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wmpratt.com/images/Nf11quilt.jpg&amp;imgrefurl=http://www.swmpratt.com/quiltsinprogress.htm&amp;usg=__qYCVfy1o0oSuBfpVTAR0_IVxJBU=&amp;h=903&amp;w=897&amp;sz=193&amp;hl=en&amp;start=4&amp;tbnid=c2N6nbstZsXVFM:&amp;tbnh=147&amp;tbnw=146&amp;prev=/images?q=quilt&amp;gbv=2&amp;hl=en&amp;sa=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lazygirldesigns.com/blog/wp-content/uploads/2007/06/Twilight%2520Quilt%25202.jpg&amp;imgrefurl=http://www.lazygirldesigns.com/blog/?p=655&amp;usg=__3Jveodig7ytvdc9YIiLXbV79tis=&amp;h=638&amp;w=600&amp;sz=176&amp;hl=en&amp;start=9&amp;tbnid=BtNpos1DttUV5M:&amp;tbnh=137&amp;tbnw=129&amp;prev=/images?q=quilt&amp;gbv=2&amp;hl=en&amp;sa=G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www.babybebop.com/images/quilt.jpg&amp;imgrefurl=http://www.babybebop.com/quilt.html&amp;usg=__tzWc6e4m0xIXTv89XMFPIdRu5Pg=&amp;h=370&amp;w=500&amp;sz=46&amp;hl=en&amp;start=15&amp;tbnid=Q6E6HLvQA2jABM:&amp;tbnh=96&amp;tbnw=130&amp;prev=/images?q=quilt&amp;gbv=2&amp;hl=en&amp;sa=G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www.janesassaman.com/core-pages/exoticquiltgallery/exoticquiltimages/TreeQuilt-cmyk.jpg&amp;imgrefurl=http://www.janesassaman.com/special-pages/pre-fall2003/treeoflife/treeoflifedownload.html&amp;usg=__gFEC5Fc6ld1rl-eb8neR-Nvr7xs=&amp;h=587&amp;w=360&amp;sz=102&amp;hl=en&amp;start=17&amp;tbnid=mBTc3lkHhZqZVM:&amp;tbnh=135&amp;tbnw=83&amp;prev=/images?q=quilt&amp;gbv=2&amp;hl=en&amp;sa=G" TargetMode="External"/><Relationship Id="rId12" Type="http://schemas.openxmlformats.org/officeDocument/2006/relationships/image" Target="../media/image33.jpeg"/><Relationship Id="rId13" Type="http://schemas.openxmlformats.org/officeDocument/2006/relationships/hyperlink" Target="http://images.google.com/imgres?imgurl=http://upload.wikimedia.org/wikipedia/commons/thumb/7/77/Crazy_Quilt_(solitaire).jpg/500px-Crazy_Quilt_(solitaire).jpg&amp;imgrefurl=http://en.wikipedia.org/wiki/Crazy_Quilt_(solitaire)&amp;usg=__WPE8YI6PmPRUAQrmQXogH4bd17g=&amp;h=514&amp;w=500&amp;sz=95&amp;hl=en&amp;start=16&amp;tbnid=URGoMeU-0aXMuM:&amp;tbnh=131&amp;tbnw=127&amp;prev=/images?q=quilt&amp;gbv=2&amp;hl=en&amp;sa=G" TargetMode="External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moritzdesigns.com/quilting/quilt2.GIF&amp;imgrefurl=http://www.moritzdesigns.com/quilting/frame.html&amp;usg=__loFSROn_sVpi6gCLolRwB2iIEkk=&amp;h=273&amp;w=301&amp;sz=31&amp;hl=en&amp;start=5&amp;tbnid=MTobNlDxI6pYVM:&amp;tbnh=105&amp;tbnw=116&amp;prev=/images?q=quilt+frames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s://secure.mennonite.net/.cWtools/download.php/mnF=MattNanHQUILTS.JPG,mnOD=Pictures,mnOD=My%2520Documents,dc=salemmennonite,dc=oh,dc=us,dc=mennonite,dc=net&amp;imgrefurl=http://salemmennonite.oh.us.mennonite.net/In_Our_Church/QUILTS__ETC.&amp;usg=__NXkr5X9kdlWrbDpxI3wur_2fO38=&amp;h=619&amp;w=982&amp;sz=148&amp;hl=en&amp;start=9&amp;tbnid=Fpi17-7tkXTd7M:&amp;tbnh=94&amp;tbnw=149&amp;prev=/images?q=quilt+frames&amp;gbv=2&amp;hl=en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quilts-frames-racks.com/db2/00147/quilts-frames-racks.com/_uimages/BabySize.jpg&amp;imgrefurl=http://quilts-frames-racks.com/_wsn/page3.html&amp;usg=__pBFmp_uuKN8q65qMSitYuknp-2E=&amp;h=480&amp;w=640&amp;sz=73&amp;hl=en&amp;start=10&amp;tbnid=Deh1zmPhmDOC9M:&amp;tbnh=103&amp;tbnw=137&amp;prev=/images?q=quilt+frames&amp;gbv=2&amp;hl=en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moritzdesigns.com/quilting/qframefront.jpg&amp;imgrefurl=http://www.moritzdesigns.com/quilting/frame.html&amp;usg=__ANrlKzOJLIADeuEaC7OsG2B_000=&amp;h=281&amp;w=401&amp;sz=77&amp;hl=en&amp;start=27&amp;tbnid=Uv9CTo-qUY_PlM:&amp;tbnh=87&amp;tbnw=124&amp;prev=/images?q=quilt+frames&amp;start=20&amp;gbv=2&amp;ndsp=20&amp;hl=en&amp;sa=N" TargetMode="External"/><Relationship Id="rId10" Type="http://schemas.openxmlformats.org/officeDocument/2006/relationships/image" Target="../media/image38.jpeg"/><Relationship Id="rId11" Type="http://schemas.openxmlformats.org/officeDocument/2006/relationships/hyperlink" Target="http://images.google.com/imgres?imgurl=http://www.rquiltingframes.com/images/quilframe1.jpg&amp;imgrefurl=http://www.rquiltingframes.com/&amp;usg=__IIAF5q1v20EEMn9fPm5SsHC8LPY=&amp;h=321&amp;w=460&amp;sz=27&amp;hl=en&amp;start=60&amp;tbnid=DqdFe6y_CVvvOM:&amp;tbnh=89&amp;tbnw=128&amp;prev=/images?q=quilt+frames&amp;start=40&amp;gbv=2&amp;ndsp=20&amp;hl=en&amp;sa=N" TargetMode="External"/><Relationship Id="rId12" Type="http://schemas.openxmlformats.org/officeDocument/2006/relationships/image" Target="../media/image39.jpeg"/><Relationship Id="rId13" Type="http://schemas.openxmlformats.org/officeDocument/2006/relationships/hyperlink" Target="http://images.google.com/imgres?imgurl=http://www.mentorscenter.com/quilt_lab/assets/int-1-lg-2.jpg&amp;imgrefurl=http://www.mentorscenter.com/quilt_lab/sub_pages/quilt_frames.htm&amp;usg=__4qUIQh2RxQXHH8Zj83bcLFQcJoQ=&amp;h=500&amp;w=500&amp;sz=18&amp;hl=en&amp;start=62&amp;tbnid=RttB1XBn5k6QJM:&amp;tbnh=130&amp;tbnw=130&amp;prev=/images?q=quilt+frames&amp;start=60&amp;gbv=2&amp;ndsp=20&amp;hl=en&amp;sa=N" TargetMode="External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littlemotors.org/antifreeze/archives/images/wrapped.jpg&amp;imgrefurl=http://www.littlemotors.org/antifreeze/archives/2004/10/&amp;usg=__PIVvvGqmRtkS7zPPc2_aUhRfST0=&amp;h=375&amp;w=500&amp;sz=50&amp;hl=en&amp;start=1&amp;tbnid=d8aSAa2VlHbdJM:&amp;tbnh=98&amp;tbnw=130&amp;prev=/images?q=wrapped&amp;gbv=2&amp;hl=en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com/imgres?imgurl=http://www.cardsunlimited.com/largeimage/WrappedChocs.jpg&amp;imgrefurl=http://www.cardsunlimited.com/bulkview.php?id=wrapped_chocolates&amp;usg=__Dpip8shX4QAfPdMD-e-5yUCklKo=&amp;h=383&amp;w=383&amp;sz=66&amp;hl=en&amp;start=5&amp;tbnid=XPYZKlwLyzbT4M:&amp;tbnh=123&amp;tbnw=123&amp;prev=/images?q=wrapped&amp;gbv=2&amp;hl=e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com/imgres?imgurl=http://hollys-handcrafts.com/images/wrapped_basket_lg.jpg&amp;imgrefurl=http://hollys-handcrafts.com/wrapped_basket.htm&amp;usg=__g0wvR9BVsIIjBVNJ86DUXNXBCrQ=&amp;h=500&amp;w=375&amp;sz=45&amp;hl=en&amp;start=6&amp;tbnid=dElHB_fJp4hiDM:&amp;tbnh=130&amp;tbnw=98&amp;prev=/images?q=wrapped&amp;gbv=2&amp;hl=e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com/imgres?imgurl=http://www.artshole.co.uk/arts/artists/other/Nadine%2520Bowler/A6-Wrapped-Spiral-2004-H25.jpg&amp;imgrefurl=http://www.artshole.co.uk/nadinewarden.htm&amp;usg=__3_O43JCM1x4FoC6gryySttQ8h2E=&amp;h=600&amp;w=896&amp;sz=52&amp;hl=en&amp;start=14&amp;tbnid=PXsq877uwn1qGM:&amp;tbnh=98&amp;tbnw=146&amp;prev=/images?q=wrapped&amp;gbv=2&amp;hl=en" TargetMode="External"/><Relationship Id="rId10" Type="http://schemas.openxmlformats.org/officeDocument/2006/relationships/image" Target="../media/image44.jpeg"/><Relationship Id="rId11" Type="http://schemas.openxmlformats.org/officeDocument/2006/relationships/hyperlink" Target="http://images.google.com/imgres?imgurl=http://www.old-picture.com/indians/pictures/Navaho-Wrapped-in-Blanket.jpg&amp;imgrefurl=http://www.old-picture.com/indians/Navaho-Wrapped-in-Blanket.htm&amp;usg=__JI-fsXSV-wVaTTHUNFRLtqzH5G0=&amp;h=831&amp;w=600&amp;sz=51&amp;hl=en&amp;start=20&amp;tbnid=nityvd3EmjeqZM:&amp;tbnh=144&amp;tbnw=104&amp;prev=/images?q=wrapped&amp;gbv=2&amp;hl=en" TargetMode="External"/><Relationship Id="rId12" Type="http://schemas.openxmlformats.org/officeDocument/2006/relationships/image" Target="../media/image45.jpeg"/><Relationship Id="rId13" Type="http://schemas.openxmlformats.org/officeDocument/2006/relationships/hyperlink" Target="http://images.google.com/imgres?imgurl=http://pdudley.home.isp-direct.com/Canoe%2520shipping/seat%2520backs%2520wrapped.JPG&amp;imgrefurl=http://pdudley.home.isp-direct.com/&amp;usg=__c1aNTrkFO_1O3L4YEov48oRttnY=&amp;h=1932&amp;w=2576&amp;sz=837&amp;hl=en&amp;start=28&amp;tbnid=XL_11pKFpq2cQM:&amp;tbnh=113&amp;tbnw=150&amp;prev=/images?q=wrapped&amp;start=20&amp;gbv=2&amp;ndsp=20&amp;hl=en&amp;sa=N" TargetMode="External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nearseanaturals.com/thumbs/oc-cotton-stuffing-bulk.jpg&amp;imgrefurl=http://www.nearseanaturals.com/item.php?id=2041&amp;usg=__GwhGMT19E9xiiRu_MvJ5kBjNbKU=&amp;h=329&amp;w=456&amp;sz=16&amp;hl=en&amp;start=26&amp;tbnid=gJDTNJnJPzf0WM:&amp;tbnh=92&amp;tbnw=128&amp;prev=/images?q=stuffing&amp;start=20&amp;gbv=2&amp;ndsp=20&amp;hl=en&amp;sa=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com/imgres?imgurl=http://biscuitshouse.typepad.com/biscuits_house/images/2007/06/03/stuffing.jpg&amp;imgrefurl=http://biscuitshouse.typepad.com/biscuits_house/amigurumi/&amp;usg=__Yhu8q0i5c5IpbE6izMM2a_dtGro=&amp;h=290&amp;w=400&amp;sz=36&amp;hl=en&amp;start=44&amp;tbnid=0ENJut9PdX4yyM:&amp;tbnh=90&amp;tbnw=124&amp;prev=/images?q=stuffing&amp;start=40&amp;gbv=2&amp;ndsp=20&amp;hl=en&amp;sa=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com/imgres?imgurl=http://www.techspedia.com/wp-content/plugins/wp-o-matic/cache/c20b8_beaver-stuffing-kit.jpg&amp;imgrefurl=http://www.techspedia.com/2008/06/15/last-minute-gadget-gifts-for-rich-dads-fun-dads-and-deadbeat-dads-thank-giz-its-friday/&amp;usg=__v8V-8w1tvqb8fBDRbECurI7NkM4=&amp;h=450&amp;w=450&amp;sz=40&amp;hl=en&amp;start=85&amp;tbnid=GO8xjShek3GTTM:&amp;tbnh=127&amp;tbnw=127&amp;prev=/images?q=stuffing&amp;start=80&amp;gbv=2&amp;ndsp=20&amp;hl=en&amp;sa=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com/imgres?imgurl=http://nerdapproved.com/wp-content/uploads/2008/06/beaver-stuffing-kit-2.jpg&amp;imgrefurl=http://nerdapproved.com/toys/beaver-stuffing-kit-satsify-your-urges/&amp;usg=__Q4zKkjxs3gjd-am3xegnqch_KVw=&amp;h=450&amp;w=450&amp;sz=38&amp;hl=en&amp;start=89&amp;tbnid=ltF6mVMFB_y5sM:&amp;tbnh=127&amp;tbnw=127&amp;prev=/images?q=stuffing&amp;start=80&amp;gbv=2&amp;ndsp=20&amp;hl=en&amp;sa=N" TargetMode="External"/><Relationship Id="rId10" Type="http://schemas.openxmlformats.org/officeDocument/2006/relationships/image" Target="../media/image50.jpeg"/><Relationship Id="rId11" Type="http://schemas.openxmlformats.org/officeDocument/2006/relationships/hyperlink" Target="http://images.google.com/imgres?imgurl=http://www.polybeads.co.uk/ebayphotos/stuffing3a.jpg&amp;imgrefurl=http://cgi.ebay.co.uk/Toy-Stuffing-Super-Soft-Polyester-Fibre-Filling-2-KILOs_W0QQitemZ120345236974QQihZ002QQcategoryZ75576QQcmdZViewItem&amp;usg=__PGrk0pb8VT9CCJ0FoOZj46W0C0o=&amp;h=300&amp;w=400&amp;sz=8&amp;hl=en&amp;start=227&amp;tbnid=55XeELwXloMSEM:&amp;tbnh=93&amp;tbnw=124&amp;prev=/images?q=stuffing&amp;start=220&amp;gbv=2&amp;ndsp=20&amp;hl=en&amp;sa=N" TargetMode="External"/><Relationship Id="rId12" Type="http://schemas.openxmlformats.org/officeDocument/2006/relationships/image" Target="../media/image51.jpeg"/><Relationship Id="rId13" Type="http://schemas.openxmlformats.org/officeDocument/2006/relationships/hyperlink" Target="http://images.google.com/imgres?imgurl=http://www.alliedkenco.com/catalog/images/TUBE_STUFFING_LARGE-22-32.jpg&amp;imgrefurl=http://www.alliedkenco.com/catalog/index.php?cPath=22_112&amp;usg=__vgqWmFusWoj7_jUb7p_uGzIXX4Y=&amp;h=400&amp;w=400&amp;sz=58&amp;hl=en&amp;start=229&amp;tbnid=uJnzi23n3HH7hM:&amp;tbnh=124&amp;tbnw=124&amp;prev=/images?q=stuffing&amp;start=220&amp;gbv=2&amp;ndsp=20&amp;hl=en&amp;sa=N" TargetMode="External"/><Relationship Id="rId14" Type="http://schemas.openxmlformats.org/officeDocument/2006/relationships/image" Target="../media/image52.jpeg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legacytrunks.com/images/Circa%25201850s%2520Gold%2520Rush%2520Stagecoach%2520Trunk.jpg&amp;imgrefurl=http://www.legacytrunks.com/trunk_history_information.htm&amp;usg=__tDk8EuX795EFWybR2SA6qrqwsnY=&amp;h=378&amp;w=504&amp;sz=38&amp;hl=en&amp;start=2&amp;tbnid=T99TGCGZyKj09M:&amp;tbnh=98&amp;tbnw=130&amp;prev=/images?q=trunk&amp;gbv=2&amp;hl=en&amp;sa=G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images.google.com/imgres?imgurl=http://shopping.ascase.com/productcart/pc/catalog/trunk-black_650_1160_general.jpg&amp;imgrefurl=http://shopping.ascase.com/productcart/pc/configurePrd.asp?idcategory=8&amp;idproduct=232&amp;usg=__-2lJzODqaWWsdmbAkxlxHco8nco=&amp;h=340&amp;w=350&amp;sz=15&amp;hl=en&amp;start=8&amp;tbnid=jVFw8ptCEgN14M:&amp;tbnh=117&amp;tbnw=120&amp;prev=/images?q=trunk&amp;gbv=2&amp;hl=en&amp;sa=G" TargetMode="External"/><Relationship Id="rId6" Type="http://schemas.openxmlformats.org/officeDocument/2006/relationships/image" Target="../media/image54.jpeg"/><Relationship Id="rId7" Type="http://schemas.openxmlformats.org/officeDocument/2006/relationships/hyperlink" Target="http://images.google.com/imgres?imgurl=http://www.wilshiregardenmarket.com/garden_accents/images/GD_Copper_Steamer_Trunk_mailbox-255.gif&amp;imgrefurl=http://www.wilshiregardenmarket.com/garden_accents/copper_steamer_trunk_wall_mount_mailbox.htm&amp;usg=__JLq5YoN7cVJAAWHVP2AXwGZ0ODg=&amp;h=300&amp;w=300&amp;sz=54&amp;hl=en&amp;start=9&amp;tbnid=Xu0NOAR6oNf2eM:&amp;tbnh=116&amp;tbnw=116&amp;prev=/images?q=trunk&amp;gbv=2&amp;hl=en&amp;sa=G" TargetMode="External"/><Relationship Id="rId8" Type="http://schemas.openxmlformats.org/officeDocument/2006/relationships/image" Target="../media/image55.jpeg"/><Relationship Id="rId9" Type="http://schemas.openxmlformats.org/officeDocument/2006/relationships/hyperlink" Target="http://images.google.com/imgres?imgurl=http://themetrunks.com/miniatures/images/Gentlemens-Trunk.jpg&amp;imgrefurl=http://themetrunks.com/miniatures/index.php?main_page=products_all&amp;disp_order=1&amp;page=2&amp;usg=__cct6z9a2eU1CC9M5SIauywTtHtE=&amp;h=375&amp;w=340&amp;sz=18&amp;hl=en&amp;start=13&amp;tbnid=k-6hCRJbOvkbRM:&amp;tbnh=122&amp;tbnw=111&amp;prev=/images?q=trunk&amp;gbv=2&amp;hl=en&amp;sa=G" TargetMode="External"/><Relationship Id="rId10" Type="http://schemas.openxmlformats.org/officeDocument/2006/relationships/image" Target="../media/image56.jpeg"/><Relationship Id="rId11" Type="http://schemas.openxmlformats.org/officeDocument/2006/relationships/hyperlink" Target="http://images.google.com/imgres?imgurl=http://themetrunks.com/miniatures/images/Steamer-Trunk.jpg&amp;imgrefurl=http://themetrunks.com/miniatures/index.php?main_page=index&amp;cPath=3&amp;usg=__6pL7UUYrD02ic-UEaxtIuOe26cM=&amp;h=288&amp;w=340&amp;sz=7&amp;hl=en&amp;start=14&amp;tbnid=ceCIgXljA1eCVM:&amp;tbnh=101&amp;tbnw=119&amp;prev=/images?q=trunk&amp;gbv=2&amp;hl=en&amp;sa=G" TargetMode="External"/><Relationship Id="rId12" Type="http://schemas.openxmlformats.org/officeDocument/2006/relationships/image" Target="../media/image57.jpeg"/><Relationship Id="rId13" Type="http://schemas.openxmlformats.org/officeDocument/2006/relationships/hyperlink" Target="http://images.google.com/imgres?imgurl=http://hypebeast.com/image/2008/01/pinel-pinel-air-jordan-sneaker-trunk-1.jpg&amp;imgrefurl=http://hypebeast.com/2008/01/pinelpinel-air-jordan-sneaker-trunk/&amp;usg=__KuGmfSwAxvij8-OzaPsLIOp9OMQ=&amp;h=597&amp;w=670&amp;sz=144&amp;hl=en&amp;start=59&amp;tbnid=FUAiDg9jTpJ3vM:&amp;tbnh=123&amp;tbnw=138&amp;prev=/images?q=trunk&amp;start=40&amp;gbv=2&amp;ndsp=20&amp;hl=en&amp;sa=N" TargetMode="External"/><Relationship Id="rId14" Type="http://schemas.openxmlformats.org/officeDocument/2006/relationships/image" Target="../media/image58.jpeg"/><Relationship Id="rId1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eb.it.ubc.ca/blogs/it/wp-content/uploads/google_unpack1.jpg&amp;imgrefurl=http://web.it.ubc.ca/blogs/it/?p=46&amp;usg=__UqGA0ZXC7Z3PwmO4lc-8M4VOo_0=&amp;h=450&amp;w=450&amp;sz=321&amp;hl=en&amp;start=13&amp;tbnid=Vp4AVkEGs2ilpM:&amp;tbnh=127&amp;tbnw=127&amp;prev=/images?q=unpack&amp;gbv=2&amp;hl=en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ages.google.com/imgres?imgurl=http://thegiantgameco.com/golf_assembly_files/unpack.jpg&amp;imgrefurl=http://thegiantgameco.com/golf_assembly.html&amp;usg=__tznfbXDSa15xmIFkRYGj11aLH3s=&amp;h=220&amp;w=157&amp;sz=5&amp;hl=en&amp;start=4&amp;tbnid=vHL6VJKjyIIdBM:&amp;tbnh=107&amp;tbnw=76&amp;prev=/images?q=unpack&amp;gbv=2&amp;hl=en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mages.google.com/imgres?imgurl=http://cognitiveharmony.net/countytrip/5-19/16unpack.jpg&amp;imgrefurl=http://thecountytrip.blogspot.com/&amp;usg=__cblGv56btCf7NrbcjSg_QCzeZu4=&amp;h=480&amp;w=640&amp;sz=54&amp;hl=en&amp;start=31&amp;tbnid=wd-L3tzyPd6qLM:&amp;tbnh=103&amp;tbnw=137&amp;prev=/images?q=unpack&amp;start=20&amp;gbv=2&amp;ndsp=20&amp;hl=en&amp;sa=N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images.google.com/imgres?imgurl=http://www.lunchbucket.org/images/58gal%2520Oceanic/Deltec_AP600/Setup/deltec_unpack_1.JPG&amp;imgrefurl=http://www.lunchbucket.org/deltec_ap600.htm&amp;usg=__GDxOGFLb1p6e8hjT5-zqfqum2sA=&amp;h=480&amp;w=360&amp;sz=27&amp;hl=en&amp;start=33&amp;tbnid=_g7-Qd0_LGPwEM:&amp;tbnh=129&amp;tbnw=97&amp;prev=/images?q=unpack&amp;start=20&amp;gbv=2&amp;ndsp=20&amp;hl=en&amp;sa=N" TargetMode="External"/><Relationship Id="rId10" Type="http://schemas.openxmlformats.org/officeDocument/2006/relationships/image" Target="../media/image62.jpeg"/><Relationship Id="rId11" Type="http://schemas.openxmlformats.org/officeDocument/2006/relationships/hyperlink" Target="http://images.google.com/imgres?imgurl=http://www.campwinnebago.com/pix2006/a/unpack3.jpg&amp;imgrefurl=http://www.campwinnebago.com/pix2006/pix.html&amp;usg=__NtugXiIqs8kLGS0duxc1svP6JYs=&amp;h=408&amp;w=614&amp;sz=74&amp;hl=en&amp;start=78&amp;tbnid=aR_J638TF3_JmM:&amp;tbnh=90&amp;tbnw=136&amp;prev=/images?q=unpack&amp;start=60&amp;gbv=2&amp;ndsp=20&amp;hl=en&amp;sa=N" TargetMode="External"/><Relationship Id="rId12" Type="http://schemas.openxmlformats.org/officeDocument/2006/relationships/image" Target="../media/image63.jpeg"/><Relationship Id="rId13" Type="http://schemas.openxmlformats.org/officeDocument/2006/relationships/hyperlink" Target="http://images.google.com/imgres?imgurl=http://www.kaeldra.com/adventure/kirkland/unpack-bedroom.jpg&amp;imgrefurl=http://www.kaeldra.com/blogarchives/2008_06_01_archive.html&amp;usg=__NvpUuMzIBPriX156rzQtopGQo_k=&amp;h=455&amp;w=600&amp;sz=97&amp;hl=en&amp;start=85&amp;tbnid=ztkXKko0xTNX9M:&amp;tbnh=102&amp;tbnw=135&amp;prev=/images?q=unpack&amp;start=80&amp;gbv=2&amp;ndsp=20&amp;hl=en&amp;sa=N" TargetMode="External"/><Relationship Id="rId14" Type="http://schemas.openxmlformats.org/officeDocument/2006/relationships/image" Target="../media/image64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3.xml"/><Relationship Id="rId3" Type="http://schemas.openxmlformats.org/officeDocument/2006/relationships/slide" Target="slide92.xml"/><Relationship Id="rId4" Type="http://schemas.openxmlformats.org/officeDocument/2006/relationships/slide" Target="slide136.xml"/><Relationship Id="rId5" Type="http://schemas.openxmlformats.org/officeDocument/2006/relationships/slide" Target="slide152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karistiansen.files.wordpress.com/2007/10/stack-of-blankets.jpg&amp;imgrefurl=http://karistiansen.wordpress.com/2007/10/&amp;usg=__WeNg5i-I7Tby5lnUUF6ueBcfcUY=&amp;h=318&amp;w=367&amp;sz=10&amp;hl=en&amp;start=3&amp;tbnid=6Gf4awLPmeiKKM:&amp;tbnh=106&amp;tbnw=122&amp;prev=/images?q=blankets&amp;gbv=2&amp;hl=en" TargetMode="External"/><Relationship Id="rId4" Type="http://schemas.openxmlformats.org/officeDocument/2006/relationships/image" Target="../media/image65.jpeg"/><Relationship Id="rId5" Type="http://schemas.openxmlformats.org/officeDocument/2006/relationships/hyperlink" Target="http://images.google.com/imgres?imgurl=http://batesmillcoverlets.com/wp-content/uploads/2008/03/oxford_blankets.jpg&amp;imgrefurl=http://batesmillcoverlets.com/category/blankets-coverlets/&amp;usg=__h_6e3ou3oGhnTmrnsVa08RatHZk=&amp;h=900&amp;w=900&amp;sz=171&amp;hl=en&amp;start=4&amp;tbnid=SxxKSXJIvYnPlM:&amp;tbnh=146&amp;tbnw=146&amp;prev=/images?q=blankets&amp;gbv=2&amp;hl=en" TargetMode="External"/><Relationship Id="rId6" Type="http://schemas.openxmlformats.org/officeDocument/2006/relationships/image" Target="../media/image66.jpeg"/><Relationship Id="rId7" Type="http://schemas.openxmlformats.org/officeDocument/2006/relationships/hyperlink" Target="http://images.google.com/imgres?imgurl=http://www.embroideryetcetera.com/images/embroidery/blanks/baby-blankets.jpg&amp;imgrefurl=http://www.embroideryetcetera.com/embroidery-blanks.htm&amp;usg=__vEaLuFNnXfpDBYkIvTCpJwdWQzQ=&amp;h=577&amp;w=883&amp;sz=42&amp;hl=en&amp;start=1&amp;tbnid=u8zz4vwszxZ6FM:&amp;tbnh=95&amp;tbnw=146&amp;prev=/images?q=blankets&amp;gbv=2&amp;hl=en" TargetMode="External"/><Relationship Id="rId8" Type="http://schemas.openxmlformats.org/officeDocument/2006/relationships/image" Target="../media/image67.jpeg"/><Relationship Id="rId9" Type="http://schemas.openxmlformats.org/officeDocument/2006/relationships/hyperlink" Target="http://images.google.com/imgres?imgurl=http://www.kashwere.biz/Kashwere-Blankets.JPG&amp;imgrefurl=http://www.kashwere.biz/Kashwere-Blankets.html&amp;usg=__kRBbnwzBHeLIJXWBdZdjuVpcEBA=&amp;h=328&amp;w=555&amp;sz=33&amp;hl=en&amp;start=17&amp;tbnid=ZwvA-j6Ly3NTCM:&amp;tbnh=79&amp;tbnw=133&amp;prev=/images?q=blankets&amp;gbv=2&amp;hl=en" TargetMode="External"/><Relationship Id="rId10" Type="http://schemas.openxmlformats.org/officeDocument/2006/relationships/image" Target="../media/image68.jpeg"/><Relationship Id="rId11" Type="http://schemas.openxmlformats.org/officeDocument/2006/relationships/hyperlink" Target="http://images.google.com/imgres?imgurl=http://www.babyafghans.com/baby_blankets_blue_white.jpg&amp;imgrefurl=http://www.babyafghans.com/blanket_sets_currently_available.htm&amp;usg=__NYQ4dIZPN8TUFTshLCE-a08mYZo=&amp;h=326&amp;w=400&amp;sz=46&amp;hl=en&amp;start=53&amp;tbnid=husxFG7vA8Db0M:&amp;tbnh=101&amp;tbnw=124&amp;prev=/images?q=blankets&amp;start=40&amp;gbv=2&amp;ndsp=20&amp;hl=en&amp;sa=N" TargetMode="External"/><Relationship Id="rId12" Type="http://schemas.openxmlformats.org/officeDocument/2006/relationships/image" Target="../media/image69.jpeg"/><Relationship Id="rId13" Type="http://schemas.openxmlformats.org/officeDocument/2006/relationships/hyperlink" Target="http://images.google.com/imgres?imgurl=http://www.healthgoods.com/shopping/images/Organic_Cotton_Wool_Blankets.jpg&amp;imgrefurl=http://www.healthgoods.com/shopping/Bed_Bath_Products/Organic_Cotton_Wool_Blankets_Comforters.asp&amp;usg=__QZApOJ82dl0dAG2yKrK9eSAQYAE=&amp;h=282&amp;w=402&amp;sz=29&amp;hl=en&amp;start=75&amp;tbnid=vyeiRsM6QBOfSM:&amp;tbnh=87&amp;tbnw=124&amp;prev=/images?q=blankets&amp;start=60&amp;gbv=2&amp;ndsp=20&amp;hl=en&amp;sa=N" TargetMode="External"/><Relationship Id="rId14" Type="http://schemas.openxmlformats.org/officeDocument/2006/relationships/image" Target="../media/image70.jpeg"/><Relationship Id="rId1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thecraftyunicorn.com/db1/00079/thecraftyunicorn.com/_uimages/DoublePlume-stitched.JPG&amp;imgrefurl=http://thecraftyunicorn.com/_wsn/page2.html&amp;usg=__DEwpxXa7SRHlx1YVln9FVgCF2Y8=&amp;h=336&amp;w=443&amp;sz=78&amp;hl=en&amp;start=14&amp;tbnid=8yrkAqkilsQpzM:&amp;tbnh=96&amp;tbnw=127&amp;prev=/images?q=stitched&amp;gbv=2&amp;hl=en" TargetMode="External"/><Relationship Id="rId4" Type="http://schemas.openxmlformats.org/officeDocument/2006/relationships/image" Target="../media/image71.jpeg"/><Relationship Id="rId5" Type="http://schemas.openxmlformats.org/officeDocument/2006/relationships/hyperlink" Target="http://images.google.com/imgres?imgurl=http://www.adsportscardsetc.com/ProductImages/supplies2007/AlbumBaseballStitched.jpg&amp;imgrefurl=http://www.adsportscardsetc.com/albumbaseballwhitestitchedultraprosportsbinder82020.aspx&amp;usg=__zznBOMJKtaObu9HLjQ-Dup4OOZc=&amp;h=300&amp;w=300&amp;sz=27&amp;hl=en&amp;start=5&amp;tbnid=xk_3EnvN6Wyi_M:&amp;tbnh=116&amp;tbnw=116&amp;prev=/images?q=stitched&amp;gbv=2&amp;hl=en" TargetMode="External"/><Relationship Id="rId6" Type="http://schemas.openxmlformats.org/officeDocument/2006/relationships/image" Target="../media/image72.jpeg"/><Relationship Id="rId7" Type="http://schemas.openxmlformats.org/officeDocument/2006/relationships/hyperlink" Target="http://images.google.com/imgres?imgurl=http://www.craftstylish.com/assets/uploads/2008/06/jsw19p3a_lg.jpg&amp;imgrefurl=http://www.craftstylish.com/item/3155/the-last-stitch-how-to-finish-your-hand-embroidery&amp;usg=__lcHPZTfKBlwdKYwl4kuhYu3F83I=&amp;h=368&amp;w=430&amp;sz=117&amp;hl=en&amp;start=52&amp;tbnid=PzIj0PIbZHWLjM:&amp;tbnh=108&amp;tbnw=126&amp;prev=/images?q=stitched&amp;start=40&amp;gbv=2&amp;ndsp=20&amp;hl=en&amp;sa=N" TargetMode="External"/><Relationship Id="rId8" Type="http://schemas.openxmlformats.org/officeDocument/2006/relationships/image" Target="../media/image73.jpeg"/><Relationship Id="rId9" Type="http://schemas.openxmlformats.org/officeDocument/2006/relationships/hyperlink" Target="http://images.google.com/imgres?imgurl=http://lafemmerose.files.wordpress.com/2008/06/mock-cathedral-stitched.jpg&amp;imgrefurl=http://lafemmerose.wordpress.com/2008/06/16/mock-cathedral-window/&amp;usg=__V8vi5OgXU4pJ4TDK05n7cWb12jg=&amp;h=1110&amp;w=1085&amp;sz=316&amp;hl=en&amp;start=67&amp;tbnid=f4Uoh-jg_aNDQM:&amp;tbnh=150&amp;tbnw=147&amp;prev=/images?q=stitched&amp;start=60&amp;gbv=2&amp;ndsp=20&amp;hl=en&amp;sa=N" TargetMode="External"/><Relationship Id="rId10" Type="http://schemas.openxmlformats.org/officeDocument/2006/relationships/image" Target="../media/image74.jpeg"/><Relationship Id="rId1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antique-used-tools.com/CollinsHatchetCarpenter_4.jpg&amp;imgrefurl=http://www.antique-used-tools.com/collins.htm&amp;usg=__8pMV4txsQAGT1PP5UjlWazNU8Tw=&amp;h=295&amp;w=312&amp;sz=29&amp;hl=en&amp;start=20&amp;tbnid=ID1BvJjbIrza5M:&amp;tbnh=111&amp;tbnw=117&amp;prev=/images?q=hatchet&amp;gbv=2&amp;hl=en&amp;sa=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images.google.com/imgres?imgurl=http://d30034051.purehost.com/store/media/Tools/3HatchetHammer_full.gif&amp;imgrefurl=http://www.survivalsolutions.com/store/product71.html&amp;usg=__vSbDav8k89GZtuCjMdIkBj9BgJU=&amp;h=285&amp;w=380&amp;sz=31&amp;hl=en&amp;start=17&amp;tbnid=JD7Jc_u2vQ-q9M:&amp;tbnh=92&amp;tbnw=123&amp;prev=/images?q=hatchet&amp;gbv=2&amp;hl=en&amp;sa=G" TargetMode="External"/><Relationship Id="rId6" Type="http://schemas.openxmlformats.org/officeDocument/2006/relationships/image" Target="../media/image76.jpeg"/><Relationship Id="rId7" Type="http://schemas.openxmlformats.org/officeDocument/2006/relationships/hyperlink" Target="http://images.google.com/imgres?imgurl=http://www.delisto.com/image/portfolio/large/XtremeHatchet.jpg&amp;imgrefurl=http://www.delisto.com/portfolio.php&amp;usg=__gZqdv-HARnSqa2EHtblPhuj3vaA=&amp;h=612&amp;w=792&amp;sz=247&amp;hl=en&amp;start=18&amp;tbnid=i11zPHFPTCjEBM:&amp;tbnh=111&amp;tbnw=143&amp;prev=/images?q=hatchet&amp;gbv=2&amp;hl=en&amp;sa=G" TargetMode="External"/><Relationship Id="rId8" Type="http://schemas.openxmlformats.org/officeDocument/2006/relationships/image" Target="../media/image77.jpeg"/><Relationship Id="rId9" Type="http://schemas.openxmlformats.org/officeDocument/2006/relationships/hyperlink" Target="http://images.google.com/imgres?imgurl=http://upload.wikimedia.org/wikipedia/commons/b/b2/Hatchet_firefighter.png&amp;imgrefurl=http://commons.wikimedia.org/wiki/Image:Hatchet_firefighter.png&amp;usg=__RJbIUuM-Ar1lfSubzZlS4p1s4Rw=&amp;h=436&amp;w=600&amp;sz=97&amp;hl=en&amp;start=29&amp;tbnid=0lxE7UxvnDZH6M:&amp;tbnh=98&amp;tbnw=135&amp;prev=/images?q=hatchet&amp;start=20&amp;gbv=2&amp;ndsp=20&amp;hl=en&amp;sa=N" TargetMode="External"/><Relationship Id="rId10" Type="http://schemas.openxmlformats.org/officeDocument/2006/relationships/image" Target="../media/image78.jpeg"/><Relationship Id="rId11" Type="http://schemas.openxmlformats.org/officeDocument/2006/relationships/hyperlink" Target="http://images.google.com/imgres?imgurl=http://www.paintedtools.com/images/store/hatchet-copy.jpg&amp;imgrefurl=http://www.paintedtools.com/default.asp?active_page_id=12&amp;usg=__u2M_zDYCJS6fQXtMQL0w82vKFE4=&amp;h=600&amp;w=400&amp;sz=57&amp;hl=en&amp;start=36&amp;tbnid=Xe1baAmDCg8ECM:&amp;tbnh=135&amp;tbnw=90&amp;prev=/images?q=hatchet&amp;start=20&amp;gbv=2&amp;ndsp=20&amp;hl=en&amp;sa=N" TargetMode="External"/><Relationship Id="rId12" Type="http://schemas.openxmlformats.org/officeDocument/2006/relationships/image" Target="../media/image79.jpeg"/><Relationship Id="rId13" Type="http://schemas.openxmlformats.org/officeDocument/2006/relationships/hyperlink" Target="http://images.google.com/imgres?imgurl=http://homepage.mac.com/zombiekiller/badmojo/images/odds/oe03_pauls_hatchet.jpg&amp;imgrefurl=http://homepage.mac.com/zombiekiller/badmojo/odds.html&amp;usg=__Z2pmqP5lFETiVuEk27Fic0f2vFI=&amp;h=600&amp;w=438&amp;sz=60&amp;hl=en&amp;start=54&amp;tbnid=asWcyRT5z-wsGM:&amp;tbnh=135&amp;tbnw=99&amp;prev=/images?q=hatchet&amp;start=40&amp;gbv=2&amp;ndsp=20&amp;hl=en&amp;sa=N" TargetMode="External"/><Relationship Id="rId14" Type="http://schemas.openxmlformats.org/officeDocument/2006/relationships/image" Target="../media/image80.jpeg"/><Relationship Id="rId1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image" Target="../media/image28.png"/><Relationship Id="rId3" Type="http://schemas.openxmlformats.org/officeDocument/2006/relationships/hyperlink" Target="http://images.google.com/imgres?imgurl=http://www.sz-wholesale.com/uploadFiles/hand%2520made%2520patchwork%2520quilts_585.jpg&amp;imgrefurl=http://www.sz-wholesale.com/Product-list/index_365.htm&amp;usg=__A2ECkiVkFua0jLtqk0rO2Zmg1WY=&amp;h=340&amp;w=500&amp;sz=72&amp;hl=en&amp;start=16&amp;tbnid=HDxBeUmNd9JiGM:&amp;tbnh=88&amp;tbnw=130&amp;prev=/images?q=patchwork&amp;gbv=2&amp;hl=en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images.google.com/imgres?imgurl=http://www.countryporch.com/quilts/images/chenille-patchwork.jpg&amp;imgrefurl=http://www.countryporch.com/quilts/chenille-patchwork.asp&amp;usg=__xuZQepTj69i3_rxKnPErYBAq9uY=&amp;h=500&amp;w=516&amp;sz=35&amp;hl=en&amp;start=19&amp;tbnid=GcV30eipgc0GcM:&amp;tbnh=127&amp;tbnw=131&amp;prev=/images?q=patchwork&amp;gbv=2&amp;hl=en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images.google.com/imgres?imgurl=http://www.sz-wholesale.com/uploadFiles/Patchwork%2520Quilt_990.jpg&amp;imgrefurl=http://www.sz-wholesale.com/Product-list/index_575.htm&amp;usg=__EUyTaUujaFW03753yvLQwEko29w=&amp;h=357&amp;w=437&amp;sz=37&amp;hl=en&amp;start=20&amp;tbnid=cQmfz46my7mq2M:&amp;tbnh=103&amp;tbnw=126&amp;prev=/images?q=patchwork&amp;gbv=2&amp;hl=en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images.google.com/imgres?imgurl=http://creativelittledaisy.typepad.com/photos/purses/blue_and_green_patchwork.jpg&amp;imgrefurl=http://creativelittledaisy.typepad.com/photos/purses/blue_and_green_patchwork.html&amp;usg=__aurWRlonA7YN3N3As1yT26Z6vzk=&amp;h=441&amp;w=499&amp;sz=119&amp;hl=en&amp;start=5&amp;tbnid=ejY8Wpy_qaJycM:&amp;tbnh=115&amp;tbnw=130&amp;prev=/images?q=patchwork&amp;gbv=2&amp;hl=en" TargetMode="External"/><Relationship Id="rId10" Type="http://schemas.openxmlformats.org/officeDocument/2006/relationships/image" Target="../media/image84.jpeg"/><Relationship Id="rId11" Type="http://schemas.openxmlformats.org/officeDocument/2006/relationships/hyperlink" Target="http://images.google.com/imgres?imgurl=http://www.blackyak.co.uk/images/products/ladies_shirts/top%2520hooded%2520patchwork%2520t%2520dye%252074%2520500.jpg&amp;imgrefurl=http://www.blackyak.co.uk/products/ladies_shirts.htm&amp;usg=__vIVfmSPn8xWzp50tvWy9ugy1YpQ=&amp;h=773&amp;w=500&amp;sz=76&amp;hl=en&amp;start=12&amp;tbnid=S1WJZOQjMzYUJM:&amp;tbnh=142&amp;tbnw=92&amp;prev=/images?q=patchwork&amp;gbv=2&amp;hl=en" TargetMode="External"/><Relationship Id="rId12" Type="http://schemas.openxmlformats.org/officeDocument/2006/relationships/image" Target="../media/image85.jpeg"/><Relationship Id="rId13" Type="http://schemas.openxmlformats.org/officeDocument/2006/relationships/hyperlink" Target="http://images.google.com/imgres?imgurl=http://sneakernews.com/wp-content/uploads/2008/01/blazer-patchwork-01a.jpg&amp;imgrefurl=http://sneakernews.com/2008/01/04/nike-wmns-blazer-mid-premium-patchwork/&amp;usg=__ndk2vjzpY6kSiIaCMne2GkOvixQ=&amp;h=428&amp;w=570&amp;sz=57&amp;hl=en&amp;start=21&amp;tbnid=B1z_dKXpwxaf1M:&amp;tbnh=101&amp;tbnw=134&amp;prev=/images?q=patchwork&amp;start=20&amp;gbv=2&amp;ndsp=20&amp;hl=en&amp;sa=N" TargetMode="External"/><Relationship Id="rId14" Type="http://schemas.openxmlformats.org/officeDocument/2006/relationships/image" Target="../media/image86.jpeg"/><Relationship Id="rId15" Type="http://schemas.openxmlformats.org/officeDocument/2006/relationships/hyperlink" Target="http://images.google.com/imgres?imgurl=http://www.dianehome.com/images/quilted_patchwork_pillow_c.jpg&amp;imgrefurl=http://www.dianehome.com/quilted-patchwork-pillows.htm&amp;usg=__GmTreGsHJfwW65sjRxYpXgHavAo=&amp;h=400&amp;w=439&amp;sz=98&amp;hl=en&amp;start=29&amp;tbnid=0CERdGvlLYyGPM:&amp;tbnh=116&amp;tbnw=127&amp;prev=/images?q=patchwork&amp;start=20&amp;gbv=2&amp;ndsp=20&amp;hl=en&amp;sa=N" TargetMode="External"/><Relationship Id="rId16" Type="http://schemas.openxmlformats.org/officeDocument/2006/relationships/image" Target="../media/image87.jpeg"/><Relationship Id="rId1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0.xml"/><Relationship Id="rId3" Type="http://schemas.openxmlformats.org/officeDocument/2006/relationships/slide" Target="slide79.xml"/><Relationship Id="rId4" Type="http://schemas.openxmlformats.org/officeDocument/2006/relationships/slide" Target="slide81.xml"/><Relationship Id="rId5" Type="http://schemas.openxmlformats.org/officeDocument/2006/relationships/slide" Target="slide82.xml"/><Relationship Id="rId6" Type="http://schemas.openxmlformats.org/officeDocument/2006/relationships/slide" Target="slide83.xml"/><Relationship Id="rId7" Type="http://schemas.openxmlformats.org/officeDocument/2006/relationships/slide" Target="slide75.xml"/><Relationship Id="rId8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97488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d7aab9"/>
                </a:solidFill>
                <a:latin typeface="Times New Roman"/>
              </a:rPr>
              <a:t>Click to listen to story.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0" descr="Quilt Stor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2979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wor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s changing all the time.  Changing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often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40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371600" y="1676520"/>
          <a:ext cx="647712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209680"/>
                <a:gridCol w="2210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wo Th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Arial Narrow"/>
                          <a:ea typeface="Arial"/>
                        </a:rPr>
                        <a:t>Three Thing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ow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dd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ppi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av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____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_____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_____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a and I used cloth scraps to make a patchwork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present in bright paper and ribbons before I give it to my m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e was a drag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stuff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side my pillow makes it s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d7aab9"/>
                </a:solidFill>
                <a:latin typeface="Verdana"/>
              </a:rPr>
              <a:t>blankets, pretended, quilt, stuffing, trunks, unpacked, wrapped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____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____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blank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____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400" spc="-1" strike="noStrike">
                <a:solidFill>
                  <a:srgbClr val="00b7a5"/>
                </a:solidFill>
                <a:latin typeface="Verdana"/>
              </a:rPr>
              <a:t>blankets, pretended, quilt, stuffing, trunks, unpacked, wrapped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tored our old clothes and toys i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the att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was cold so mom and I put extr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blanke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n the b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trip, I opened my suitcase and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unpack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y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cheer</a:t>
            </a: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371600" y="1981080"/>
          <a:ext cx="6172200" cy="404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cheer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747" name="Picture 2" descr="http://tbn0.google.com/images?q=tbn:_L1wR2YcKyXAwM:http://www.cuti.com.my/Sub/Kl/kuala_lumpur_deer_par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133720"/>
            <a:ext cx="1562040" cy="1218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http://tbn1.google.com/images?q=tbn:BQNRBmu5JSYbmM:http://www.sixwise.com/images/articles/2006/08/13/bully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057400"/>
            <a:ext cx="990360" cy="13842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http://tbn2.google.com/images?q=tbn:bz-WX8scz_f8iM:http://www.uam.es/otros/hojavol/hoja8/imagenes08/leer0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209680"/>
            <a:ext cx="1676160" cy="1073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http://tbn0.google.com/images?q=tbn:gajkcFSmcspCtM:http://www.britishschool.be/uploads/imanager/secondary/ssl/peer-support-group08-09_big.jpg"/>
          <p:cNvPicPr/>
          <p:nvPr/>
        </p:nvPicPr>
        <p:blipFill>
          <a:blip r:embed="rId7"/>
          <a:stretch/>
        </p:blipFill>
        <p:spPr>
          <a:xfrm>
            <a:off x="6324480" y="2209680"/>
            <a:ext cx="1841760" cy="1219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" descr="http://tbn1.google.com/images?q=tbn:3PJlf_ft76agxM:http://i148.photobucket.com/albums/s34/jumper5836/GTG-2009/forza2/roadamerica25lap/lap1_turn7_1.jpg"/>
          <p:cNvPicPr/>
          <p:nvPr/>
        </p:nvPicPr>
        <p:blipFill>
          <a:blip r:embed="rId8"/>
          <a:stretch/>
        </p:blipFill>
        <p:spPr>
          <a:xfrm>
            <a:off x="914400" y="441972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2" descr="http://tbn3.google.com/images?q=tbn:RwL3iNdcpZ_DSM:http://www.blogcdn.com/www.politicsdaily.com/media/2009/01/cheney4-724104.jpg"/>
          <p:cNvPicPr/>
          <p:nvPr/>
        </p:nvPicPr>
        <p:blipFill>
          <a:blip r:embed="rId9"/>
          <a:stretch/>
        </p:blipFill>
        <p:spPr>
          <a:xfrm>
            <a:off x="3200400" y="450540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4" descr="http://tbn3.google.com/images?q=tbn:UG_Hoy_AQb34sM:http://www.mccullagh.org/db9/d30-17/longhorn-steer-2.jpg"/>
          <p:cNvPicPr/>
          <p:nvPr/>
        </p:nvPicPr>
        <p:blipFill>
          <a:blip r:embed="rId10"/>
          <a:stretch/>
        </p:blipFill>
        <p:spPr>
          <a:xfrm>
            <a:off x="5257800" y="4419720"/>
            <a:ext cx="905040" cy="13525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6" descr="http://tbn2.google.com/images?q=tbn:jpBKkQnFM4L_RM:http://www.r32argent.ca/Interior%2520pictures_files/steering%2520wheel.jpg"/>
          <p:cNvPicPr/>
          <p:nvPr/>
        </p:nvPicPr>
        <p:blipFill>
          <a:blip r:embed="rId11"/>
          <a:stretch/>
        </p:blipFill>
        <p:spPr>
          <a:xfrm>
            <a:off x="6553080" y="449568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755" name="TextBox 10"/>
          <p:cNvSpPr/>
          <p:nvPr/>
        </p:nvSpPr>
        <p:spPr>
          <a:xfrm>
            <a:off x="1236960" y="335268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Box 11"/>
          <p:cNvSpPr/>
          <p:nvPr/>
        </p:nvSpPr>
        <p:spPr>
          <a:xfrm>
            <a:off x="2923920" y="34290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4666320" y="32767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6799320" y="34290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p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Box 14"/>
          <p:cNvSpPr/>
          <p:nvPr/>
        </p:nvSpPr>
        <p:spPr>
          <a:xfrm>
            <a:off x="1475280" y="5715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Box 15"/>
          <p:cNvSpPr/>
          <p:nvPr/>
        </p:nvSpPr>
        <p:spPr>
          <a:xfrm>
            <a:off x="3378240" y="563868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5133960" y="579132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Box 17"/>
          <p:cNvSpPr/>
          <p:nvPr/>
        </p:nvSpPr>
        <p:spPr>
          <a:xfrm>
            <a:off x="6886800" y="56386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t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7cd"/>
                </a:solidFill>
                <a:latin typeface="Verdana"/>
              </a:rPr>
              <a:t>Words that have more than one meaning are multiple-meaning wo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this tree is bumpy and br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ut bags in the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our 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squirted from the elephant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 put on his </a:t>
            </a:r>
            <a:r>
              <a:rPr b="0" lang="en-US" sz="2800" spc="-1" strike="noStrike">
                <a:solidFill>
                  <a:srgbClr val="f297cd"/>
                </a:solidFill>
                <a:latin typeface="Verdana"/>
              </a:rPr>
              <a:t>trunk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went for a sw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ultiple-Meaning Word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z put her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her piggy ba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wet clot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bies grow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ver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 – 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, you keep it protected from anything that would cause it to be ruined or spoi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 photo by putting it in a fr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preserv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food by freezing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Student Pages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nn made an a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Ann made an appl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o you like pi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o you like pi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br>
              <a:rPr sz="4000"/>
            </a:br>
            <a:r>
              <a:rPr b="0" lang="en-US" sz="2800" spc="-1" strike="noStrike">
                <a:solidFill>
                  <a:srgbClr val="00b7a5"/>
                </a:solidFill>
                <a:latin typeface="Verdana"/>
              </a:rPr>
              <a:t>Think of words that tells how these fruits taste, look, feel, smell, and sound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05120" y="2895480"/>
          <a:ext cx="5562360" cy="2590920"/>
        </p:xfrm>
        <a:graphic>
          <a:graphicData uri="http://schemas.openxmlformats.org/drawingml/2006/table">
            <a:tbl>
              <a:tblPr/>
              <a:tblGrid>
                <a:gridCol w="2781360"/>
                <a:gridCol w="2781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Grap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with Accuracy and Appropriate 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 quilt that was made for a special birthday celeb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371600" y="2286000"/>
          <a:ext cx="6095880" cy="33098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0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 paragraph explaining how a tree's trunk chang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 tim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quilt.  It was stitched by the people of Brewster.  The pictures on the quilt represent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990720" y="1981080"/>
          <a:ext cx="7162560" cy="423720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423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nother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quil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 It was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titched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y the people of Brewster.  The pictures on the quilt </a:t>
                      </a:r>
                      <a:r>
                        <a:rPr b="1" i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represent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mportant things about the town.  What would a quilt of your town include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 – re – 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something means to stand for it or symboliz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person can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nother person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lag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 mayo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represent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he people of a 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The Good G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meone made that apple pie on the t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ridle might be somewhere in the st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d you see my friend cry when he took a tumb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Sentence Read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e will fly kites high in the sky when we go to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y beautiful purple bike is so nice to r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 did not like the sight of a bee right there in the front y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boy</a:t>
            </a:r>
            <a:br>
              <a:rPr sz="4000"/>
            </a:br>
            <a:r>
              <a:rPr b="1" lang="en-US" sz="1400" spc="-1" strike="noStrike">
                <a:solidFill>
                  <a:srgbClr val="00b7a5"/>
                </a:solidFill>
                <a:latin typeface="Verdana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bo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798" name="Picture 2" descr="http://tbn0.google.com/images?q=tbn:9F3cgkQjEjh_xM:http://www.eriksinfobase.com/images/forsale_animals/coy%2520fish%2520orange%2520taiwan%2520lots%2520mass%2520swarm%2520red%2520yellow%2520koi%2520koy%2520pond%2520national%2520palace%2520museum%2520more.jpg"/>
          <p:cNvPicPr/>
          <p:nvPr/>
        </p:nvPicPr>
        <p:blipFill>
          <a:blip r:embed="rId1"/>
          <a:stretch/>
        </p:blipFill>
        <p:spPr>
          <a:xfrm>
            <a:off x="914400" y="2133720"/>
            <a:ext cx="1925640" cy="14475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http://tbn1.google.com/images?q=tbn:y_Glg219g56BkM:http://farm1.static.flickr.com/56/126661740_09fc5a03ab.jpg"/>
          <p:cNvPicPr/>
          <p:nvPr/>
        </p:nvPicPr>
        <p:blipFill>
          <a:blip r:embed="rId2"/>
          <a:stretch/>
        </p:blipFill>
        <p:spPr>
          <a:xfrm>
            <a:off x="3276720" y="2133720"/>
            <a:ext cx="1819080" cy="13716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http://tbn2.google.com/images?q=tbn:4sra4pzM1PRxEM:http://jakst.files.wordpress.com/2009/06/soy.jpg"/>
          <p:cNvPicPr/>
          <p:nvPr/>
        </p:nvPicPr>
        <p:blipFill>
          <a:blip r:embed="rId3"/>
          <a:stretch/>
        </p:blipFill>
        <p:spPr>
          <a:xfrm>
            <a:off x="1676520" y="4419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8" descr="http://tbn3.google.com/images?q=tbn:OhjXKCU5z1gGUM:http://www.soytoy.com/graphics/stm600.jpg"/>
          <p:cNvPicPr/>
          <p:nvPr/>
        </p:nvPicPr>
        <p:blipFill>
          <a:blip r:embed="rId4"/>
          <a:stretch/>
        </p:blipFill>
        <p:spPr>
          <a:xfrm>
            <a:off x="3276720" y="4145040"/>
            <a:ext cx="1752480" cy="22748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0" descr="http://tbn0.google.com/images?q=tbn:RbAUBYZkRdCTAM:http://www.neath-porttalbot.gov.uk/images/toy%2520library%2520march%25202006%2520004.jpg"/>
          <p:cNvPicPr/>
          <p:nvPr/>
        </p:nvPicPr>
        <p:blipFill>
          <a:blip r:embed="rId5"/>
          <a:stretch/>
        </p:blipFill>
        <p:spPr>
          <a:xfrm>
            <a:off x="5867280" y="2133720"/>
            <a:ext cx="1828800" cy="2814480"/>
          </a:xfrm>
          <a:prstGeom prst="rect">
            <a:avLst/>
          </a:prstGeom>
          <a:ln w="0">
            <a:noFill/>
          </a:ln>
        </p:spPr>
      </p:pic>
      <p:sp>
        <p:nvSpPr>
          <p:cNvPr id="803" name="TextBox 7"/>
          <p:cNvSpPr/>
          <p:nvPr/>
        </p:nvSpPr>
        <p:spPr>
          <a:xfrm>
            <a:off x="2156760" y="57913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1471680" y="35812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3763080" y="350532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j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Box 10"/>
          <p:cNvSpPr/>
          <p:nvPr/>
        </p:nvSpPr>
        <p:spPr>
          <a:xfrm>
            <a:off x="6422760" y="4952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Making Memories: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Changing with the Times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4 - 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om has a bunndle of book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om has a bundle of book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 am able to write my n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I am able to write my na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Adjectives</a:t>
            </a:r>
            <a:br>
              <a:rPr sz="4000"/>
            </a:br>
            <a:r>
              <a:rPr b="0" i="1" lang="en-US" sz="2800" spc="-1" strike="noStrike">
                <a:solidFill>
                  <a:srgbClr val="00b7a5"/>
                </a:solidFill>
                <a:latin typeface="Arial Narrow"/>
              </a:rPr>
              <a:t>Choose adjectives that describe each of the senses.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68580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Fe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Sm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 – u - a - 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worth something or is important to you, it is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friends are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to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mother may have given you a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valuabl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piece of jewel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 to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ad selections that explain how familiar things can help us deal with changes.  Tomorrow we will learn more about how things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hur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1600200" y="24382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st different landmar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your city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tough changes easier.  One way is to preserve familiar things.  Why are familiar things valuabl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Friday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447920" y="2209680"/>
          <a:ext cx="6095880" cy="4187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s week we read about ways to make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tough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hanges easier.  One way is to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preserv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familiar things.  Why are familiar thing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valu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: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erenc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The Good G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simple little crad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by slept in a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i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littl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rad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able to pick the apple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as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pick 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p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rom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Syllables: Consonant + l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sprinkle pepper on top of my noodle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m will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prin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epper on top of my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nood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snuggle and giggle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to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nu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gi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th Mom and 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Click to listen to a song about some favorite, familiar things.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21" name="Picture 2" descr="Favorite, Old Things"/>
          <p:cNvPicPr/>
          <p:nvPr/>
        </p:nvPicPr>
        <p:blipFill>
          <a:blip r:embed="rId1"/>
          <a:srcRect l="0" t="0" r="0" b="14910"/>
          <a:stretch/>
        </p:blipFill>
        <p:spPr>
          <a:xfrm>
            <a:off x="3344760" y="457200"/>
            <a:ext cx="5113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you can sew from squares of fabr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qui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fill a quilt with this to make it so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stuff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eans the same as made belie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pre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goes with chests and c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tru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br>
              <a:rPr sz="4000"/>
            </a:br>
            <a:r>
              <a:rPr b="1" i="1" lang="en-US" sz="2000" spc="-1" strike="noStrike">
                <a:solidFill>
                  <a:srgbClr val="00b7a5"/>
                </a:solidFill>
                <a:latin typeface="Verdana"/>
              </a:rPr>
              <a:t>wrapped, unpacked, stuffing, blankets, quilt, pretended, trunks</a:t>
            </a:r>
            <a:endParaRPr b="0" lang="en-US" sz="2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what you did when you returned home from a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un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something that has been done to a gi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wrap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help keep you warm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50069"/>
                </a:solidFill>
                <a:latin typeface="Verdana"/>
              </a:rPr>
              <a:t>blan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590920" y="1447920"/>
          <a:ext cx="4038480" cy="452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an jim play a bu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Can Jim play a bu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show made Me gig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The show made me gigg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don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know the meaning, spelling, or pronunciation of a word, look it up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are looking for information about a topic, I sometimes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encyclopedi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want to use more interesting words in your writing, look in a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thesaur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different words that have similar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Reference Sourc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want to see maps, use a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atla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also use the computer as a reference source.  You can use several reference sources on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CD-R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uch as encyclopedia, atlas, and thesaur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use the computer to search the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Intern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for information about a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7a5"/>
                </a:solidFill>
                <a:latin typeface="Verdana"/>
              </a:rPr>
              <a:t>Wrap Up Your Week!</a:t>
            </a:r>
            <a:endParaRPr b="0" lang="en-US" sz="4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1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 Talk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r Changing Wor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Fri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4479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a class that mak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special quilt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We are now ready to </a:t>
            </a:r>
            <a:br>
              <a:rPr sz="4400"/>
            </a:b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take our story tests.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09680" y="2327040"/>
            <a:ext cx="65534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Story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lassroom webpa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tudent p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Taking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ther Reading Quiz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Quiz # 9046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b7a5"/>
                </a:solidFill>
                <a:latin typeface="Verdana"/>
              </a:rPr>
              <a:t>lo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studied two-syllable words like this already.  What do you know about reading two-syllables wo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we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l learn about two-syllable words that end with a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with a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make the last syllable in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n / 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b7a5"/>
                </a:solidFill>
                <a:latin typeface="Verdana"/>
              </a:rPr>
              <a:t>wi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blend two-syllable words with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y dividing them into smaller par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ually divide the word so the last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 / 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m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g / 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d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in / 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a / 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b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r / 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 / 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 / 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51fe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Small Group</a:t>
            </a: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5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Mak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  <a:ea typeface="Arial"/>
              </a:rPr>
              <a:t>a, e, 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rial"/>
              </a:rPr>
              <a:t>b, g, j, l, m, n, p, s, 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g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f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a word ends in a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lus </a:t>
            </a:r>
            <a:r>
              <a:rPr b="1" i="1" lang="en-US" sz="3200" spc="-1" strike="noStrike">
                <a:solidFill>
                  <a:srgbClr val="00b7a5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hose three letters usually make up the last syllable of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one syllable at a time and then blend them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start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371600" y="1981080"/>
          <a:ext cx="617220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51fe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2161800" y="36576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4440960" y="327672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6730560" y="32004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2005200" y="563868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4515480" y="5486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6805080" y="5181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Picture 2" descr="http://tbn1.google.com/images?q=tbn:NktdV0iZj9qtXM:http://www.global-b2b-network.com/direct/dbimage/50294677/Service_Cart_W__Two_Draw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956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tbn0.google.com/images?q=tbn:50RwSanPWdBmEM:http://www.wait-till-i.com/stuff/chart-tabl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98108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http://tbn1.google.com/images?q=tbn:lGFZ2ePVIr0N0M:http://www.dartsuppliesdirect.com/dar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114800"/>
            <a:ext cx="1562040" cy="1398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tbn2.google.com/images?q=tbn:GOGKNjnk6x5BLM:http://img.photobucket.com/albums/v604/kitchenmonkey/Tart-Sin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4114800"/>
            <a:ext cx="1362240" cy="1028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http://tbn3.google.com/images?q=tbn:6RzLdwkVCWcjGM:http://www.animalspirits.com/de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2057400"/>
            <a:ext cx="1086120" cy="120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http://tbn2.google.com/images?q=tbn:nm_6nWpjuyy0vM:http://www.exclusivestm.com/wp-content/uploads/2007/07/kwik-e-mar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48520" y="1981080"/>
            <a:ext cx="15904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4000"/>
            </a:b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born</a:t>
            </a:r>
            <a:r>
              <a:rPr b="1" lang="en-US" sz="4000" spc="-1" strike="noStrike">
                <a:solidFill>
                  <a:srgbClr val="00b7a5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71600" y="1981080"/>
          <a:ext cx="617220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w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born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57" name="Picture 2" descr="http://tbn2.google.com/images?q=tbn:i3VCzG8f421EyM:http://soilcrop.tamu.edu/photogallery/cornsorghum%2B/images/corn%2520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09680"/>
            <a:ext cx="1809720" cy="1447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http://tbn3.google.com/images?q=tbn:dFMbDTHzipzVMM:http://chnm.gmu.edu/resources/essays/images/EvolutionIntelligentDesignClimateChange/corn_diversit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2286000"/>
            <a:ext cx="193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http://tbn2.google.com/images?q=tbn:SPB6CDXn_Xr7ZM:http://www.music.vt.edu/musicdictionary/texth/images/hor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286000"/>
            <a:ext cx="1148040" cy="1371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http://tbn0.google.com/images?q=tbn:yxvgoqtVcGzxgM:http://www.photoshopmonster.com/tutorial/Photoshop-torn-punch-hole-paper/Photoshop-torn-punch-hole-paper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2286000"/>
            <a:ext cx="1295640" cy="1362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http://tbn1.google.com/images?q=tbn:n4lhcH4A1wJW-M:http://www.mooseyscountrygarden.com/rose-picture-gallery/rose-thorn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449568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ttp://tbn0.google.com/images?q=tbn:UCUsla4Wrip9jM:http://msnbcmedia3.msn.com/j/msnbc/Components/Photos/060201/060201_bernanke_sworn_hmed_7a.hmedium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4495680"/>
            <a:ext cx="1629000" cy="12765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8"/>
          <p:cNvSpPr/>
          <p:nvPr/>
        </p:nvSpPr>
        <p:spPr>
          <a:xfrm>
            <a:off x="1939320" y="365760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orn (maiz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Box 9"/>
          <p:cNvSpPr/>
          <p:nvPr/>
        </p:nvSpPr>
        <p:spPr>
          <a:xfrm>
            <a:off x="5575680" y="36576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10"/>
          <p:cNvSpPr/>
          <p:nvPr/>
        </p:nvSpPr>
        <p:spPr>
          <a:xfrm>
            <a:off x="7254000" y="365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Box 11"/>
          <p:cNvSpPr/>
          <p:nvPr/>
        </p:nvSpPr>
        <p:spPr>
          <a:xfrm>
            <a:off x="2381400" y="5791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Box 12"/>
          <p:cNvSpPr/>
          <p:nvPr/>
        </p:nvSpPr>
        <p:spPr>
          <a:xfrm>
            <a:off x="5432400" y="5791320"/>
            <a:ext cx="11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w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alk in the Desert.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are our town and a desert alike and how are they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lection contains many different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these ideas in various w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pay attention to the way ideas are organ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7"/>
              </a:rPr>
              <a:t>Spelling City-Vo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8"/>
              </a:rPr>
              <a:t>Spelling City-Ama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Spelling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3"/>
              </a:rPr>
              <a:t>Fill-in-the Blank</a:t>
            </a: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4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297cd"/>
                </a:solidFill>
                <a:uFillTx/>
                <a:latin typeface="Verdana"/>
                <a:ea typeface="Arial"/>
                <a:hlinkClick r:id="rId15"/>
              </a:rPr>
              <a:t>Spelling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Compare &amp; Contras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way to organize ideas is to tell how things are alike and diffe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use clue words, such a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unli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to tell how things are diffe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Story Structur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 is how the writer fits all the parts of the story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riter can organize story ideas by contrasting how things are different or comparing how things are a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" descr="Student Pages"/>
          <p:cNvPicPr/>
          <p:nvPr/>
        </p:nvPicPr>
        <p:blipFill>
          <a:blip r:embed="rId1"/>
          <a:stretch/>
        </p:blipFill>
        <p:spPr>
          <a:xfrm>
            <a:off x="533520" y="577800"/>
            <a:ext cx="80769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ill rod a purple bik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Jill rode a purple bik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rick put tap on his ank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97cd"/>
                </a:solidFill>
                <a:latin typeface="Verdana"/>
              </a:rPr>
              <a:t>Rick put tape on his ank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looks, sounds, tastes, feels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1" lang="en-US" sz="3200" spc="-1" strike="noStrike">
                <a:solidFill>
                  <a:srgbClr val="00b7a5"/>
                </a:solidFill>
                <a:latin typeface="Verdana"/>
              </a:rPr>
              <a:t> smell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y family loves hot corn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Ho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the way the cornbread tastes and f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yellow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cold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green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smooth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delicious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819520" y="1600200"/>
          <a:ext cx="3657600" cy="45529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8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Amazing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r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m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mother always use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m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put in flour, eggs,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added pepper and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tirred to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moo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 mak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delic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rnbread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that end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and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something that makes a girl feel like she is home—no matter where she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523880" y="2362320"/>
          <a:ext cx="6096240" cy="3200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Rectangle 29"/>
          <p:cNvSpPr/>
          <p:nvPr/>
        </p:nvSpPr>
        <p:spPr>
          <a:xfrm>
            <a:off x="1752480" y="3276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Write about wh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friendships are valua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warm, old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295280" y="2286000"/>
          <a:ext cx="6705720" cy="3700440"/>
        </p:xfrm>
        <a:graphic>
          <a:graphicData uri="http://schemas.openxmlformats.org/drawingml/2006/table">
            <a:tbl>
              <a:tblPr/>
              <a:tblGrid>
                <a:gridCol w="670572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about a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arm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ld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quilt.  This quilt changes over time.  Have you ever owned something for a long tim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llables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is difficult to do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something can take a lot of wear and tear without breaking or being damaged, i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migh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decide what kind of pet you w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Jeans are made from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mate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ome me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tough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o ch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 – cen – tra - 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are thinking about one thing very carefully, that is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you are trying to solve a math problem and are not paying attention to anything else, you are in deep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all you will do for a morning is clean your room, your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concentr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is on cl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you wrinkle your forehead and draw your eyebrows together, usually when you are worried, angry, or thin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you try to think of an answer to a hard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person who is worried about a lost pet may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smile is the opposite of 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frow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2590920" y="685800"/>
          <a:ext cx="4038480" cy="5638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ank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te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f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u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pack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ap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it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t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ch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Kimi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Verdan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s Oce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read this word because you know how to read two-syllable words that end with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you come to a two-syllable word that ends with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look for the two syll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them and then read the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004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i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igg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zz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listen to </a:t>
            </a:r>
            <a:r>
              <a:rPr b="0" lang="ja-JP" sz="4400" spc="-1" strike="noStrike">
                <a:solidFill>
                  <a:srgbClr val="00b7a5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My Teddy Bear.</a:t>
            </a:r>
            <a:r>
              <a:rPr b="0" lang="ja-JP" sz="4400" spc="-1" strike="noStrike">
                <a:solidFill>
                  <a:srgbClr val="00b7a5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18" name="Picture 1" descr="Phonics Songs and Rhymes Chart 16"/>
          <p:cNvPicPr/>
          <p:nvPr/>
        </p:nvPicPr>
        <p:blipFill>
          <a:blip r:embed="rId1"/>
          <a:srcRect l="-1857" t="0" r="0" b="10974"/>
          <a:stretch/>
        </p:blipFill>
        <p:spPr>
          <a:xfrm>
            <a:off x="4114800" y="457200"/>
            <a:ext cx="44197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400"/>
            </a:b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Find words with consonant + le in </a:t>
            </a:r>
            <a:r>
              <a:rPr b="1" lang="ja-JP" sz="2800" spc="-1" strike="noStrike">
                <a:solidFill>
                  <a:srgbClr val="b50069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b50069"/>
                </a:solidFill>
                <a:latin typeface="Verdana"/>
              </a:rPr>
              <a:t>My Teddy Bear.</a:t>
            </a:r>
            <a:r>
              <a:rPr b="1" lang="ja-JP" sz="2800" spc="-1" strike="noStrike">
                <a:solidFill>
                  <a:srgbClr val="b50069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05740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ug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c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90920" y="1447920"/>
          <a:ext cx="4038480" cy="4190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o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me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br>
              <a:rPr sz="4000"/>
            </a:br>
            <a:r>
              <a:rPr b="1" lang="en-US" sz="2400" spc="-1" strike="noStrike">
                <a:solidFill>
                  <a:srgbClr val="f297cd"/>
                </a:solidFill>
                <a:latin typeface="Verdana"/>
              </a:rPr>
              <a:t>scribble, mumble, cradle, ripple, sprinkle, ankle, riddle, paddle, cable, simple, staple, twinkle</a:t>
            </a:r>
            <a:endParaRPr b="0" lang="en-US" sz="2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2590920"/>
          <a:ext cx="7772400" cy="3429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50069"/>
                          </a:solidFill>
                          <a:latin typeface="Verdana"/>
                        </a:rPr>
                        <a:t>-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r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a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ri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mb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p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5800" y="1523880"/>
          <a:ext cx="2895480" cy="4524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45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Word Family Word – year</a:t>
            </a:r>
            <a:r>
              <a:rPr b="1" lang="en-US" sz="3200" spc="-1" strike="noStrike">
                <a:solidFill>
                  <a:srgbClr val="00b7a5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297cd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371600" y="1295280"/>
          <a:ext cx="6172200" cy="5072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2057400"/>
          <a:ext cx="2895840" cy="350532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Word Family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3809880" y="1523880"/>
          <a:ext cx="4689720" cy="4614840"/>
        </p:xfrm>
        <a:graphic>
          <a:graphicData uri="http://schemas.openxmlformats.org/drawingml/2006/table">
            <a:tbl>
              <a:tblPr/>
              <a:tblGrid>
                <a:gridCol w="468972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kle           bund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             bub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e           gig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ble           spar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rple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tic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le  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mu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gle          </a:t>
                      </a:r>
                      <a:r>
                        <a:rPr b="1" lang="en-US" sz="2800" spc="-1" strike="noStrike">
                          <a:solidFill>
                            <a:srgbClr val="00b7a5"/>
                          </a:solidFill>
                          <a:latin typeface="Verdana"/>
                        </a:rPr>
                        <a:t>scram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ink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Quilt Story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Word Family Word – year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53" name="Picture 2" descr="http://tbn1.google.com/images?q=tbn:m6IhTnRSlDxbgM:http://www.freeuni.edu.ge/shortprograms/blog/wp-content/uploads/2008/12/fea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57400"/>
            <a:ext cx="1352520" cy="1038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http://tbn0.google.com/images?q=tbn:LGGgLaEVj6ej_M:http://img.directindustry.com/images_di/photo-g/cylindrical-gear-37804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057400"/>
            <a:ext cx="1419480" cy="113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tbn2.google.com/images?q=tbn:pIzGVNZvsr0HCM:http://www.noiseaddicts.com/wp-content/uploads/2009/02/hearing-los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0574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http://tbn3.google.com/images?q=tbn:uxTDjllZGOA4IM:http://gallery.hd.org/_exhibits/natural-science/_more2003/_more09/elephant-rear-view-and-dung-on-road-bordered-by-bushes-in-Addo-Park-Eastern-Cape-South-Africa-WL.jpg">
            <a:hlinkClick r:id="rId7"/>
          </p:cNvPr>
          <p:cNvPicPr/>
          <p:nvPr/>
        </p:nvPicPr>
        <p:blipFill>
          <a:blip r:embed="rId8"/>
          <a:srcRect l="0" t="0" r="0" b="14664"/>
          <a:stretch/>
        </p:blipFill>
        <p:spPr>
          <a:xfrm>
            <a:off x="5791320" y="2057400"/>
            <a:ext cx="95256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http://tbn2.google.com/images?q=tbn:CNTGmzcpCDfwUM:http://www.filtsai.com/cooking/blue_stuffed_tenderloin/sear_0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33720" y="411480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2" descr="http://tbn0.google.com/images?q=tbn:ZgvEW7Qn9MvjvM:http://i92.photobucket.com/albums/l14/bigwiggly/Tea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057400"/>
            <a:ext cx="1085760" cy="1181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http://tbn2.google.com/images?q=tbn:Ud0GQ0uX3jrDMM:http://www.expertalpacashearing.com/images/electric_shear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4114800"/>
            <a:ext cx="1304640" cy="981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8" descr="http://tbn1.google.com/images?q=tbn:oqc9HjI7OhWWlM:http://earth911.com/wp-content/uploads/2008/10/clear-glass-j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40384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0" descr="http://tbn0.google.com/images?q=tbn:wTXc6fqpKnDMBM:http://www.goravani.com/art/Copper_spear_re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47000" y="3809880"/>
            <a:ext cx="520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2" descr="http://tbn1.google.com/images?q=tbn:NpytkPVRWmg1NM:http://upload.wikimedia.org/wikipedia/commons/d/de/NCI_cream_cheese_bagel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57800" y="4114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4" descr="http://tbn0.google.com/images?q=tbn:rQ2Yf0t_gGH_bM:http://upload.wikimedia.org/wikipedia/commons/b/be/WorldCalendar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85800" y="3962520"/>
            <a:ext cx="1181160" cy="12668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4"/>
          <p:cNvSpPr/>
          <p:nvPr/>
        </p:nvSpPr>
        <p:spPr>
          <a:xfrm>
            <a:off x="1237680" y="3124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Box 15"/>
          <p:cNvSpPr/>
          <p:nvPr/>
        </p:nvSpPr>
        <p:spPr>
          <a:xfrm>
            <a:off x="2914920" y="3200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Box 16"/>
          <p:cNvSpPr/>
          <p:nvPr/>
        </p:nvSpPr>
        <p:spPr>
          <a:xfrm>
            <a:off x="4515840" y="32004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Box 17"/>
          <p:cNvSpPr/>
          <p:nvPr/>
        </p:nvSpPr>
        <p:spPr>
          <a:xfrm>
            <a:off x="5886360" y="32767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Box 18"/>
          <p:cNvSpPr/>
          <p:nvPr/>
        </p:nvSpPr>
        <p:spPr>
          <a:xfrm>
            <a:off x="7337520" y="32004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790920" y="52578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Box 20"/>
          <p:cNvSpPr/>
          <p:nvPr/>
        </p:nvSpPr>
        <p:spPr>
          <a:xfrm>
            <a:off x="2461680" y="51814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3837240" y="51055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Box 22"/>
          <p:cNvSpPr/>
          <p:nvPr/>
        </p:nvSpPr>
        <p:spPr>
          <a:xfrm>
            <a:off x="5136840" y="51055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m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23"/>
          <p:cNvSpPr/>
          <p:nvPr/>
        </p:nvSpPr>
        <p:spPr>
          <a:xfrm>
            <a:off x="6503400" y="51055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Box 24"/>
          <p:cNvSpPr/>
          <p:nvPr/>
        </p:nvSpPr>
        <p:spPr>
          <a:xfrm>
            <a:off x="7646400" y="5791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sp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giggle when we tickle each 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brother and I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gig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w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ic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sparkle and twinkle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ars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spar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wink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n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069"/>
                </a:solidFill>
                <a:latin typeface="Verdana"/>
              </a:rPr>
              <a:t>Syllables: C + le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ble is made of purple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cab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made of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pur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title of the song she played on her bu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tit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the song she played on her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bug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 bed covering made by stitching together layers of fab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wrapp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covered by winding or fo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297cd"/>
                </a:solidFill>
                <a:latin typeface="Verdana"/>
              </a:rPr>
              <a:t>preten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make-beli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stuff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soft material used to fill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runk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sturdy boxes in which objects are pa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next words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Star%2520and%2520Plume%2520quilt%2520cro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1727280" cy="2362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Nf11qui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600200"/>
            <a:ext cx="2270160" cy="2286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Twilight%2520Quilt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86400" y="1676520"/>
            <a:ext cx="2081160" cy="2209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quil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524480"/>
            <a:ext cx="2438280" cy="1800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5" descr="TreeQuilt-cmy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6120" y="4267080"/>
            <a:ext cx="1258920" cy="2048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7" descr="500px-Crazy_Quilt_(solitaire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78400" y="4114800"/>
            <a:ext cx="2170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quilting fram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quilt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057400" cy="1862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mnF%3DMattNanHQUIL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1981080"/>
            <a:ext cx="3047760" cy="1922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BabySiz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5400"/>
            <a:ext cx="2819520" cy="21211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qframefron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4749840"/>
            <a:ext cx="1905120" cy="1336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quilframe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15000" y="4197240"/>
            <a:ext cx="2743200" cy="1908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6" descr="int-1-lg-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19810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wrapp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8" descr="wrapp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419720"/>
            <a:ext cx="2438640" cy="1838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0" descr="WrappedChoc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1600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wrapped_basket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8720" y="1600200"/>
            <a:ext cx="2068560" cy="2743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4" descr="A6-Wrapped-Spiral-2004-H2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476600"/>
            <a:ext cx="2666880" cy="1791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6" descr="Navaho-Wrapped-in-Blank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600200"/>
            <a:ext cx="2036880" cy="281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8" descr="seat%2520backs%2520wrappe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4549680"/>
            <a:ext cx="22669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uffing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oc-cotton-stuffing-bul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514600" cy="18082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stuff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1981080"/>
            <a:ext cx="2438640" cy="1770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c20b8_beaver-stuffing-k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3886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beaver-stuffing-kit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388620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stuffing3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19920" y="19810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7" descr="TUBE_STUFFING_LARGE-22-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392436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trunk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Circa%25201850s%2520Gold%2520Rush%2520Stagecoach%2520Trun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81080"/>
            <a:ext cx="2362320" cy="17812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trunk-black_650_1160_gen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1981080"/>
            <a:ext cx="2057400" cy="1752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1" descr="GD_Copper_Steamer_Trunk_mailbox-2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981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Gentlemens-Trun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886200"/>
            <a:ext cx="2027160" cy="222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Steamer-Trunk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3886200"/>
            <a:ext cx="2590920" cy="22003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pinel-pinel-air-jordan-sneaker-trunk-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4002120"/>
            <a:ext cx="23814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unpacke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google_unpac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657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unpa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167652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1" descr="16unpa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1676520"/>
            <a:ext cx="2438280" cy="1833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3" descr="deltec_unpack_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3962520"/>
            <a:ext cx="1782720" cy="2371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unpack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1676520"/>
            <a:ext cx="2819520" cy="1865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unpack-bedroo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1320" y="4343400"/>
            <a:ext cx="26575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ig Question: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ow can familiar things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help us with changes?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blanket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stack-of-blanke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7200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" descr="oxford_blanke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505320"/>
            <a:ext cx="2590920" cy="2819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baby-blanke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267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Kashwere-Blanke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600200"/>
            <a:ext cx="2971800" cy="1765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5" descr="baby_blankets_blue_whit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1600200"/>
            <a:ext cx="2210040" cy="1800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7" descr="Organic_Cotton_Wool_Blanket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1600200"/>
            <a:ext cx="2324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stitched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685800" y="1676160"/>
            <a:ext cx="7772400" cy="46479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DoublePlume-stitc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" descr="AlbumBaseballSt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3" descr="jsw19p3a_l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888080"/>
            <a:ext cx="1676520" cy="1436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mock-cathedral-stitche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7080" y="2590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hatche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685800" y="17521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CollinsHatchetCarpenter_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752480"/>
            <a:ext cx="2286000" cy="2168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" descr="3HatchetHammer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752480"/>
            <a:ext cx="2466720" cy="1844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XtremeHatche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114800"/>
            <a:ext cx="2743200" cy="21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Hatchet_firefight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038480"/>
            <a:ext cx="1596960" cy="22003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5" descr="hatchet-cop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7240" y="3733920"/>
            <a:ext cx="1670040" cy="2504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oe03_pauls_hatch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1280" y="175248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297cd"/>
                </a:solidFill>
                <a:uFillTx/>
                <a:latin typeface="Verdana"/>
                <a:hlinkClick r:id="rId1" action="ppaction://hlinksldjump"/>
              </a:rPr>
              <a:t>patchwork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hand%2520made%2520patchwork%2520quilts_5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447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chenille-patchwor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1447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Patchwork%2520Quilt_9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1447920"/>
            <a:ext cx="2571840" cy="2101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blue_and_green_patchwor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90920" y="4114800"/>
            <a:ext cx="1676160" cy="1482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" descr="top%2520hooded%2520patchwork%2520t%2520dye%252074%25205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3920" y="3733920"/>
            <a:ext cx="1716120" cy="2647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7" descr="blazer-patchwork-01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403848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9" descr="quilted_patchwork_pillow_c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4114800"/>
            <a:ext cx="1981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2" action="ppaction://hlinksldjump"/>
              </a:rPr>
              <a:t>blanket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coverings for beds used to keep sleepers w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3" action="ppaction://hlinksldjump"/>
              </a:rPr>
              <a:t> unpacke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removed from a suitcase or other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4" action="ppaction://hlinksldjump"/>
              </a:rPr>
              <a:t>stitch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fastened together with sti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5" action="ppaction://hlinksldjump"/>
              </a:rPr>
              <a:t>hatch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mall ax with a short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6" action="ppaction://hlinksldjump"/>
              </a:rPr>
              <a:t>patchwork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– different pieces of cloth sewn toge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ictures of </a:t>
            </a:r>
            <a:r>
              <a:rPr b="0" lang="en-US" sz="2800" spc="-1" strike="noStrike" u="sng">
                <a:solidFill>
                  <a:srgbClr val="f297cd"/>
                </a:solidFill>
                <a:uFillTx/>
                <a:latin typeface="Verdana"/>
                <a:hlinkClick r:id="rId7" action="ppaction://hlinksldjump"/>
              </a:rPr>
              <a:t>quilting fram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Words Review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eten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ff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an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pac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Vocabulary Strategy: Word Structure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strategies to use when you come across words you don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them up in a dictionary or glo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look for context clues in the words and sentences around the unknown w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you can get the meaning from word parts such as the base word and pre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tudent Pages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te a puple grap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I ate a purple grap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did you blow a b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97cd"/>
                </a:solidFill>
                <a:latin typeface="Verdana"/>
              </a:rPr>
              <a:t>Did you blow a bubb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Grammar: Adjective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ffbde3"/>
                </a:solidFill>
                <a:latin typeface="Verdan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scribes a person, place, animal, or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jective can tell how something looks, sounds, tastes, feels, or sm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Mother made a large qui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97cd"/>
                </a:solidFill>
                <a:latin typeface="Verdana"/>
              </a:rPr>
              <a:t>Lar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ells how the quilt l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0" lang="en-US" sz="40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Mon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362320"/>
          <a:ext cx="6096240" cy="3700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0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 world is changing all the time.  Changing is often hard.  How can familiar things help us with changes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Wrap Up Our Day!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Talk Abou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orrow we will read about an object that brings joy to all kinds of living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Tuesday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447920" y="23623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ite about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cial you packed for a trip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able to help Kimi feel a little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7a5"/>
                </a:solidFill>
                <a:latin typeface="Verdana"/>
              </a:rPr>
              <a:t>Quilt Story</a:t>
            </a:r>
            <a:r>
              <a:rPr b="1" lang="en-US" sz="4400" spc="-1" strike="noStrike">
                <a:solidFill>
                  <a:srgbClr val="00b7a5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b7a5"/>
                </a:solidFill>
                <a:latin typeface="Verdana"/>
              </a:rPr>
              <a:t>Wednesday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523880" y="1905120"/>
          <a:ext cx="6096240" cy="418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19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day we will read more about McKenna and Kimi.  McKenna is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ab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o help Kimi feel a </a:t>
                      </a:r>
                      <a:r>
                        <a:rPr b="1" i="1" lang="en-US" sz="3200" spc="-1" strike="noStrike">
                          <a:solidFill>
                            <a:srgbClr val="f297cd"/>
                          </a:solidFill>
                          <a:latin typeface="Verdana"/>
                        </a:rPr>
                        <a:t>little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tter.  How do you make your friends feel better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</a:rPr>
              <a:t>Today we will learn about: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z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ative E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ds with consonant + 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-meaning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ectives and Ou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Verdana"/>
                <a:ea typeface="Arial"/>
              </a:rPr>
              <a:t>Quilt Story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752480" y="350532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 – l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is the country in which you were  born or where you feel you be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You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ay be the country you remember living in as a 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eople who were born or raised in France call it their </a:t>
            </a:r>
            <a:r>
              <a:rPr b="1" lang="en-US" sz="3200" spc="-1" strike="noStrike">
                <a:solidFill>
                  <a:srgbClr val="f297cd"/>
                </a:solidFill>
                <a:latin typeface="Verdana"/>
                <a:ea typeface="Arial"/>
              </a:rPr>
              <a:t>homel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 - ti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rson can wait for something or put up with some trouble without complaining or getting ups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have to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waiting in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t takes time to learn how to play a musical instrument, so 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You must be </a:t>
            </a:r>
            <a:r>
              <a:rPr b="1" lang="en-US" sz="2800" spc="-1" strike="noStrike">
                <a:solidFill>
                  <a:srgbClr val="f297cd"/>
                </a:solidFill>
                <a:latin typeface="Verdana"/>
                <a:ea typeface="Arial"/>
              </a:rPr>
              <a:t>pat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when teaching younger brothers or sisters how to do new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7a5"/>
                </a:solidFill>
                <a:latin typeface="Verdana"/>
                <a:ea typeface="Verdana"/>
              </a:rPr>
              <a:t>Read-Aloud</a:t>
            </a:r>
            <a:endParaRPr b="0" lang="en-US" sz="7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Kimi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Verdan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s Oce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Comparative Endings: </a:t>
            </a:r>
            <a:br>
              <a:rPr sz="3600"/>
            </a:b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-</a:t>
            </a:r>
            <a:r>
              <a:rPr b="1" i="1" lang="en-US" sz="3600" spc="-1" strike="noStrike">
                <a:solidFill>
                  <a:srgbClr val="00b7a5"/>
                </a:solidFill>
                <a:latin typeface="Verdana"/>
              </a:rPr>
              <a:t>er</a:t>
            </a:r>
            <a:r>
              <a:rPr b="1" lang="en-US" sz="3600" spc="-1" strike="noStrike">
                <a:solidFill>
                  <a:srgbClr val="00b7a5"/>
                </a:solidFill>
                <a:latin typeface="Verdana"/>
              </a:rPr>
              <a:t> and </a:t>
            </a:r>
            <a:r>
              <a:rPr b="1" i="1" lang="en-US" sz="3600" spc="-1" strike="noStrike">
                <a:solidFill>
                  <a:srgbClr val="00b7a5"/>
                </a:solidFill>
                <a:latin typeface="Verdana"/>
              </a:rPr>
              <a:t>-est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7aab9"/>
                </a:solidFill>
                <a:latin typeface="Verdana"/>
              </a:rPr>
              <a:t>bigger   -    big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read these words because you know how to read base words with e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wo things, and the ending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used to compare three or more th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the final consonant is doubled befo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r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i="1" lang="en-US" sz="2800" spc="-1" strike="noStrike">
                <a:solidFill>
                  <a:srgbClr val="d7aab9"/>
                </a:solidFill>
                <a:latin typeface="Verdan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the base word ends in y, change the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an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adding 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–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1" lang="en-US" sz="2800" spc="-1" strike="noStrike">
                <a:solidFill>
                  <a:srgbClr val="d7aab9"/>
                </a:solidFill>
                <a:latin typeface="Verdana"/>
              </a:rPr>
              <a:t> -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4-01-25T20:08:49Z</dcterms:modified>
  <cp:revision>43</cp:revision>
  <dc:subject/>
  <dc:title>Slide 1</dc:title>
</cp:coreProperties>
</file>